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849E-EEFC-4F82-867F-C5A232639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3812760"/>
            <a:ext cx="9144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F35F-C9D0-459A-ADB9-721B2DCCB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3812760"/>
            <a:ext cx="4462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3812760"/>
            <a:ext cx="4462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5E3A-5A50-4416-831E-1AC802915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2944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1066320"/>
            <a:ext cx="2944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1066320"/>
            <a:ext cx="2944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3812760"/>
            <a:ext cx="2944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3812760"/>
            <a:ext cx="2944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3812760"/>
            <a:ext cx="2944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D946-E410-4EFF-B22F-AD1336771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F8F2-BB88-4CD7-AB33-0267CA253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56A1-F666-499C-9814-7C0482F82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02D8-0E40-42C9-B635-E2B76481E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680A-E786-4234-BA4C-B5D7BCF86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240" y="-3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A177-D602-41CF-8C2E-DA31B3F75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3812760"/>
            <a:ext cx="4462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DA47-6953-4B99-BE2A-C3DBF6ACC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3812760"/>
            <a:ext cx="4462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39DC-1E9B-437D-9258-043D09917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3812760"/>
            <a:ext cx="9144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CCDB-563B-479A-AE5D-BBC252DDB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spcBef>
                <a:spcPts val="72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26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726"/>
              </a:spcBef>
              <a:buClr>
                <a:srgbClr val="0099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726"/>
              </a:spcBef>
              <a:buClr>
                <a:srgbClr val="ff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-380880">
              <a:spcBef>
                <a:spcPts val="726"/>
              </a:spcBef>
              <a:buClr>
                <a:srgbClr val="008ae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2209680" indent="-38088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2209680" indent="-38088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6760" y="647676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FBF01369-ED6B-4FA0-B4AD-709DCF01D8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sw.w3.org/topic/HCLS/ClinicalObservationsInteroperability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esw.w3.org/topic/HCLS/ClinicalObservationsInteroperability" TargetMode="External"/><Relationship Id="rId2" Type="http://schemas.openxmlformats.org/officeDocument/2006/relationships/hyperlink" Target="http://hcls.deri.org/coi/demo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686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Clinical Observations Interoperability (COI):</a:t>
            </a:r>
            <a:br>
              <a:rPr sz="3000"/>
            </a:b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How can Semantic Web Technologies Help?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6840" y="312408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pul Kashy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vipul.kashyap@cigna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9900"/>
                </a:solidFill>
                <a:uFillTx/>
                <a:latin typeface="Times New Roman"/>
                <a:hlinkClick r:id="rId1"/>
              </a:rPr>
              <a:t>http://esw.w3.org/topic/HCLS/ClinicalObservationsInterope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SHALS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bruary 25, 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mbridge, 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Acknowledgments: Helen Chen, Eric P and Holger Stenzhorn for COI Demo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Parsa Mirhaji for providing the real world clinical data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Use Case: Patient Screening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03120" y="685800"/>
            <a:ext cx="7543800" cy="5646600"/>
            <a:chOff x="303120" y="685800"/>
            <a:chExt cx="7543800" cy="5646600"/>
          </a:xfrm>
        </p:grpSpPr>
        <p:sp>
          <p:nvSpPr>
            <p:cNvPr id="159" name=""/>
            <p:cNvSpPr/>
            <p:nvPr/>
          </p:nvSpPr>
          <p:spPr>
            <a:xfrm>
              <a:off x="303120" y="685800"/>
              <a:ext cx="7543800" cy="564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3824280" y="1251000"/>
              <a:ext cx="1508040" cy="627120"/>
              <a:chOff x="3824280" y="1251000"/>
              <a:chExt cx="1508040" cy="627120"/>
            </a:xfrm>
          </p:grpSpPr>
          <p:sp>
            <p:nvSpPr>
              <p:cNvPr id="161" name=""/>
              <p:cNvSpPr/>
              <p:nvPr/>
            </p:nvSpPr>
            <p:spPr>
              <a:xfrm>
                <a:off x="3824280" y="1251000"/>
                <a:ext cx="1508040" cy="627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824280" y="1251000"/>
                <a:ext cx="1508040" cy="627120"/>
              </a:xfrm>
              <a:prstGeom prst="rect">
                <a:avLst/>
              </a:prstGeom>
              <a:noFill/>
              <a:ln cap="rnd"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>
              <a:off x="3908160" y="1305000"/>
              <a:ext cx="34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linic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909960" y="1413000"/>
              <a:ext cx="35100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285080" y="1305000"/>
              <a:ext cx="404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Resear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287960" y="1413000"/>
              <a:ext cx="4125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3920" y="1305000"/>
              <a:ext cx="372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Protoco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7520" y="1413000"/>
              <a:ext cx="37800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03840" y="1433520"/>
              <a:ext cx="790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Eligibility Criteria: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965040" y="15555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25160" y="1555560"/>
              <a:ext cx="404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Inclus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965040" y="168120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24080" y="1681200"/>
              <a:ext cx="429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Exclus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881440" y="2379600"/>
              <a:ext cx="3646440" cy="1138320"/>
              <a:chOff x="2881440" y="2379600"/>
              <a:chExt cx="3646440" cy="1138320"/>
            </a:xfrm>
          </p:grpSpPr>
          <p:grpSp>
            <p:nvGrpSpPr>
              <p:cNvPr id="175" name=""/>
              <p:cNvGrpSpPr/>
              <p:nvPr/>
            </p:nvGrpSpPr>
            <p:grpSpPr>
              <a:xfrm>
                <a:off x="2881440" y="2379600"/>
                <a:ext cx="3646440" cy="1138320"/>
                <a:chOff x="2881440" y="2379600"/>
                <a:chExt cx="3646440" cy="113832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2881440" y="2379600"/>
                  <a:ext cx="3646440" cy="1138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2881440" y="2379600"/>
                  <a:ext cx="3646440" cy="1138320"/>
                </a:xfrm>
                <a:prstGeom prst="rect">
                  <a:avLst/>
                </a:prstGeom>
                <a:noFill/>
                <a:ln cap="rnd"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"/>
              <p:cNvSpPr/>
              <p:nvPr/>
            </p:nvSpPr>
            <p:spPr>
              <a:xfrm>
                <a:off x="4249800" y="2587680"/>
                <a:ext cx="892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EMR DATA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013280" y="2827440"/>
                <a:ext cx="879480" cy="271440"/>
              </a:xfrm>
              <a:prstGeom prst="rect">
                <a:avLst/>
              </a:prstGeom>
              <a:noFill/>
              <a:ln cap="rnd"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097880" y="2886120"/>
                <a:ext cx="374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e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956120" y="2827440"/>
                <a:ext cx="1068480" cy="271440"/>
              </a:xfrm>
              <a:prstGeom prst="rect">
                <a:avLst/>
              </a:prstGeom>
              <a:noFill/>
              <a:ln cap="rnd"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038920" y="2886120"/>
                <a:ext cx="782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rocedur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3" name=""/>
              <p:cNvGrpSpPr/>
              <p:nvPr/>
            </p:nvGrpSpPr>
            <p:grpSpPr>
              <a:xfrm>
                <a:off x="3384720" y="3141720"/>
                <a:ext cx="1193760" cy="271440"/>
                <a:chOff x="3384720" y="3141720"/>
                <a:chExt cx="1193760" cy="27144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3384720" y="3141720"/>
                  <a:ext cx="1193760" cy="271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3384720" y="3141720"/>
                  <a:ext cx="1193760" cy="271440"/>
                </a:xfrm>
                <a:prstGeom prst="rect">
                  <a:avLst/>
                </a:prstGeom>
                <a:noFill/>
                <a:ln cap="rnd"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3466800" y="3200400"/>
                <a:ext cx="723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iagnos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195720" y="2513160"/>
                <a:ext cx="879480" cy="272880"/>
              </a:xfrm>
              <a:prstGeom prst="rect">
                <a:avLst/>
              </a:prstGeom>
              <a:noFill/>
              <a:ln cap="rnd"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703760" y="3141720"/>
                <a:ext cx="1320840" cy="271440"/>
              </a:xfrm>
              <a:prstGeom prst="rect">
                <a:avLst/>
              </a:prstGeom>
              <a:noFill/>
              <a:ln cap="rnd"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787640" y="3200400"/>
                <a:ext cx="985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emographic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086520" y="2827440"/>
                <a:ext cx="252360" cy="347400"/>
              </a:xfrm>
              <a:prstGeom prst="rect">
                <a:avLst/>
              </a:prstGeom>
              <a:noFill/>
              <a:ln cap="rnd"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457960" y="2513160"/>
                <a:ext cx="880920" cy="272880"/>
              </a:xfrm>
              <a:prstGeom prst="rect">
                <a:avLst/>
              </a:prstGeom>
              <a:noFill/>
              <a:ln cap="rnd"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006720" y="2827440"/>
                <a:ext cx="879480" cy="271440"/>
              </a:xfrm>
              <a:prstGeom prst="rect">
                <a:avLst/>
              </a:prstGeom>
              <a:noFill/>
              <a:ln cap="rnd"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870120" y="4889520"/>
              <a:ext cx="314280" cy="376200"/>
            </a:xfrm>
            <a:custGeom>
              <a:avLst/>
              <a:gdLst/>
              <a:ahLst/>
              <a:rect l="l" t="t" r="r" b="b"/>
              <a:pathLst>
                <a:path w="198" h="237">
                  <a:moveTo>
                    <a:pt x="0" y="178"/>
                  </a:moveTo>
                  <a:lnTo>
                    <a:pt x="49" y="178"/>
                  </a:lnTo>
                  <a:lnTo>
                    <a:pt x="49" y="0"/>
                  </a:lnTo>
                  <a:lnTo>
                    <a:pt x="148" y="0"/>
                  </a:lnTo>
                  <a:lnTo>
                    <a:pt x="148" y="178"/>
                  </a:lnTo>
                  <a:lnTo>
                    <a:pt x="198" y="178"/>
                  </a:lnTo>
                  <a:lnTo>
                    <a:pt x="99" y="237"/>
                  </a:lnTo>
                  <a:lnTo>
                    <a:pt x="0" y="178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2503440" y="4137120"/>
              <a:ext cx="5154840" cy="1952640"/>
              <a:chOff x="2503440" y="4137120"/>
              <a:chExt cx="5154840" cy="1952640"/>
            </a:xfrm>
          </p:grpSpPr>
          <p:sp>
            <p:nvSpPr>
              <p:cNvPr id="195" name=""/>
              <p:cNvSpPr/>
              <p:nvPr/>
            </p:nvSpPr>
            <p:spPr>
              <a:xfrm>
                <a:off x="7421400" y="555948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676200" y="5560920"/>
                <a:ext cx="165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ai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742360" y="5560920"/>
                <a:ext cx="2293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as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910760" y="5560920"/>
                <a:ext cx="2293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as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163400" y="5560920"/>
                <a:ext cx="506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/8 criteria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163400" y="5686560"/>
                <a:ext cx="1713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371400" y="5560920"/>
                <a:ext cx="177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Y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503440" y="5514840"/>
                <a:ext cx="792360" cy="3254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583360" y="5560920"/>
                <a:ext cx="3952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03333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421400" y="588636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676920" y="588636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743440" y="588636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911480" y="588636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163760" y="588636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371760" y="588636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503440" y="5840280"/>
                <a:ext cx="792360" cy="249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581200" y="588636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675840" y="5235480"/>
                <a:ext cx="2293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as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675840" y="4911840"/>
                <a:ext cx="2293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as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676920" y="4183200"/>
                <a:ext cx="4701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riteria #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674760" y="4333680"/>
                <a:ext cx="514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(Pass/Fail/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676920" y="4459320"/>
                <a:ext cx="555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esearcher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676920" y="4584600"/>
                <a:ext cx="4381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eeds to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676920" y="4710240"/>
                <a:ext cx="4320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valuate)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421400" y="523224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421400" y="490680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421400" y="418140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742720" y="5235480"/>
                <a:ext cx="165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ai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910760" y="5235480"/>
                <a:ext cx="2293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as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163400" y="5235480"/>
                <a:ext cx="506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/8 criteria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163400" y="5361120"/>
                <a:ext cx="1713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371760" y="5235480"/>
                <a:ext cx="1591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o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503440" y="5189400"/>
                <a:ext cx="792360" cy="3254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583360" y="5235480"/>
                <a:ext cx="3952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02222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742360" y="4911840"/>
                <a:ext cx="2293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as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743440" y="4183200"/>
                <a:ext cx="628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o Criteria #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741280" y="4333680"/>
                <a:ext cx="514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(Pass/Fail/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743440" y="4459320"/>
                <a:ext cx="555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esearcher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743440" y="4584600"/>
                <a:ext cx="4381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eeds to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743440" y="4710240"/>
                <a:ext cx="4320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valuate)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910760" y="4911840"/>
                <a:ext cx="2581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ass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163400" y="4911840"/>
                <a:ext cx="506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6/8 criteria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163400" y="5037120"/>
                <a:ext cx="1713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371400" y="4911840"/>
                <a:ext cx="177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Y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503440" y="4863960"/>
                <a:ext cx="792360" cy="3254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583360" y="4911840"/>
                <a:ext cx="3952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01111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911840" y="4183200"/>
                <a:ext cx="4701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riteria #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909320" y="4333680"/>
                <a:ext cx="514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(Pass/Fail/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911840" y="4459320"/>
                <a:ext cx="555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esearcher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911840" y="4584600"/>
                <a:ext cx="4381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eeds to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911840" y="4710240"/>
                <a:ext cx="4320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valuate)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163400" y="4183200"/>
                <a:ext cx="442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# Criteria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162680" y="4308480"/>
                <a:ext cx="514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et / Total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163040" y="4433760"/>
                <a:ext cx="465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riteria in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163760" y="4559400"/>
                <a:ext cx="375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rotoco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370680" y="4183200"/>
                <a:ext cx="502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otentially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371040" y="4308480"/>
                <a:ext cx="506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ligible for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371400" y="4433760"/>
                <a:ext cx="375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rotoco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503440" y="4137120"/>
                <a:ext cx="792360" cy="7268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580480" y="4183200"/>
                <a:ext cx="592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atient MR #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503440" y="4137120"/>
                <a:ext cx="5154840" cy="0"/>
              </a:xfrm>
              <a:prstGeom prst="line">
                <a:avLst/>
              </a:prstGeom>
              <a:ln cap="sq"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503440" y="4863960"/>
                <a:ext cx="5154840" cy="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503440" y="5189400"/>
                <a:ext cx="5154840" cy="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503440" y="6089760"/>
                <a:ext cx="5154840" cy="0"/>
              </a:xfrm>
              <a:prstGeom prst="line">
                <a:avLst/>
              </a:prstGeom>
              <a:ln cap="sq"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503440" y="4137120"/>
                <a:ext cx="0" cy="1952640"/>
              </a:xfrm>
              <a:prstGeom prst="line">
                <a:avLst/>
              </a:prstGeom>
              <a:ln cap="sq"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295800" y="4137120"/>
                <a:ext cx="0" cy="19526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089240" y="4137120"/>
                <a:ext cx="0" cy="19526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834080" y="4137120"/>
                <a:ext cx="0" cy="19526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667480" y="4137120"/>
                <a:ext cx="0" cy="19526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658280" y="4137120"/>
                <a:ext cx="0" cy="1952640"/>
              </a:xfrm>
              <a:prstGeom prst="line">
                <a:avLst/>
              </a:prstGeom>
              <a:ln cap="sq"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600960" y="4137120"/>
                <a:ext cx="0" cy="19526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503440" y="5514840"/>
                <a:ext cx="5154840" cy="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343640" y="4137120"/>
                <a:ext cx="0" cy="19526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503440" y="5840280"/>
                <a:ext cx="5154840" cy="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9" name=""/>
            <p:cNvSpPr/>
            <p:nvPr/>
          </p:nvSpPr>
          <p:spPr>
            <a:xfrm>
              <a:off x="609480" y="928800"/>
              <a:ext cx="2027520" cy="633240"/>
            </a:xfrm>
            <a:custGeom>
              <a:avLst/>
              <a:gdLst/>
              <a:ahLst/>
              <a:rect l="l" t="t" r="r" b="b"/>
              <a:pathLst>
                <a:path w="1277" h="399">
                  <a:moveTo>
                    <a:pt x="1272" y="10"/>
                  </a:moveTo>
                  <a:lnTo>
                    <a:pt x="1193" y="10"/>
                  </a:lnTo>
                  <a:lnTo>
                    <a:pt x="1193" y="0"/>
                  </a:lnTo>
                  <a:lnTo>
                    <a:pt x="1272" y="0"/>
                  </a:lnTo>
                  <a:lnTo>
                    <a:pt x="1272" y="10"/>
                  </a:lnTo>
                  <a:close/>
                  <a:moveTo>
                    <a:pt x="1164" y="10"/>
                  </a:moveTo>
                  <a:lnTo>
                    <a:pt x="1084" y="10"/>
                  </a:lnTo>
                  <a:lnTo>
                    <a:pt x="1084" y="0"/>
                  </a:lnTo>
                  <a:lnTo>
                    <a:pt x="1164" y="0"/>
                  </a:lnTo>
                  <a:lnTo>
                    <a:pt x="1164" y="10"/>
                  </a:lnTo>
                  <a:close/>
                  <a:moveTo>
                    <a:pt x="1055" y="10"/>
                  </a:moveTo>
                  <a:lnTo>
                    <a:pt x="975" y="10"/>
                  </a:lnTo>
                  <a:lnTo>
                    <a:pt x="975" y="0"/>
                  </a:lnTo>
                  <a:lnTo>
                    <a:pt x="1055" y="0"/>
                  </a:lnTo>
                  <a:lnTo>
                    <a:pt x="1055" y="10"/>
                  </a:lnTo>
                  <a:close/>
                  <a:moveTo>
                    <a:pt x="946" y="10"/>
                  </a:moveTo>
                  <a:lnTo>
                    <a:pt x="867" y="10"/>
                  </a:lnTo>
                  <a:lnTo>
                    <a:pt x="867" y="0"/>
                  </a:lnTo>
                  <a:lnTo>
                    <a:pt x="946" y="0"/>
                  </a:lnTo>
                  <a:lnTo>
                    <a:pt x="946" y="10"/>
                  </a:lnTo>
                  <a:close/>
                  <a:moveTo>
                    <a:pt x="837" y="10"/>
                  </a:moveTo>
                  <a:lnTo>
                    <a:pt x="758" y="10"/>
                  </a:lnTo>
                  <a:lnTo>
                    <a:pt x="758" y="0"/>
                  </a:lnTo>
                  <a:lnTo>
                    <a:pt x="837" y="0"/>
                  </a:lnTo>
                  <a:lnTo>
                    <a:pt x="837" y="10"/>
                  </a:lnTo>
                  <a:close/>
                  <a:moveTo>
                    <a:pt x="728" y="10"/>
                  </a:moveTo>
                  <a:lnTo>
                    <a:pt x="649" y="10"/>
                  </a:lnTo>
                  <a:lnTo>
                    <a:pt x="649" y="0"/>
                  </a:lnTo>
                  <a:lnTo>
                    <a:pt x="728" y="0"/>
                  </a:lnTo>
                  <a:lnTo>
                    <a:pt x="728" y="10"/>
                  </a:lnTo>
                  <a:close/>
                  <a:moveTo>
                    <a:pt x="619" y="10"/>
                  </a:moveTo>
                  <a:lnTo>
                    <a:pt x="540" y="10"/>
                  </a:lnTo>
                  <a:lnTo>
                    <a:pt x="540" y="0"/>
                  </a:lnTo>
                  <a:lnTo>
                    <a:pt x="619" y="0"/>
                  </a:lnTo>
                  <a:lnTo>
                    <a:pt x="619" y="10"/>
                  </a:lnTo>
                  <a:close/>
                  <a:moveTo>
                    <a:pt x="510" y="10"/>
                  </a:moveTo>
                  <a:lnTo>
                    <a:pt x="431" y="10"/>
                  </a:lnTo>
                  <a:lnTo>
                    <a:pt x="431" y="0"/>
                  </a:lnTo>
                  <a:lnTo>
                    <a:pt x="510" y="0"/>
                  </a:lnTo>
                  <a:lnTo>
                    <a:pt x="510" y="10"/>
                  </a:lnTo>
                  <a:close/>
                  <a:moveTo>
                    <a:pt x="401" y="10"/>
                  </a:moveTo>
                  <a:lnTo>
                    <a:pt x="322" y="10"/>
                  </a:lnTo>
                  <a:lnTo>
                    <a:pt x="322" y="0"/>
                  </a:lnTo>
                  <a:lnTo>
                    <a:pt x="401" y="0"/>
                  </a:lnTo>
                  <a:lnTo>
                    <a:pt x="401" y="10"/>
                  </a:lnTo>
                  <a:close/>
                  <a:moveTo>
                    <a:pt x="292" y="10"/>
                  </a:moveTo>
                  <a:lnTo>
                    <a:pt x="213" y="10"/>
                  </a:lnTo>
                  <a:lnTo>
                    <a:pt x="213" y="0"/>
                  </a:lnTo>
                  <a:lnTo>
                    <a:pt x="292" y="0"/>
                  </a:lnTo>
                  <a:lnTo>
                    <a:pt x="292" y="10"/>
                  </a:lnTo>
                  <a:close/>
                  <a:moveTo>
                    <a:pt x="183" y="10"/>
                  </a:moveTo>
                  <a:lnTo>
                    <a:pt x="104" y="10"/>
                  </a:lnTo>
                  <a:lnTo>
                    <a:pt x="104" y="0"/>
                  </a:lnTo>
                  <a:lnTo>
                    <a:pt x="183" y="0"/>
                  </a:lnTo>
                  <a:lnTo>
                    <a:pt x="183" y="10"/>
                  </a:lnTo>
                  <a:close/>
                  <a:moveTo>
                    <a:pt x="75" y="10"/>
                  </a:moveTo>
                  <a:lnTo>
                    <a:pt x="5" y="10"/>
                  </a:lnTo>
                  <a:lnTo>
                    <a:pt x="10" y="5"/>
                  </a:lnTo>
                  <a:lnTo>
                    <a:pt x="10" y="15"/>
                  </a:lnTo>
                  <a:lnTo>
                    <a:pt x="0" y="15"/>
                  </a:lnTo>
                  <a:lnTo>
                    <a:pt x="0" y="0"/>
                  </a:lnTo>
                  <a:lnTo>
                    <a:pt x="75" y="0"/>
                  </a:lnTo>
                  <a:lnTo>
                    <a:pt x="75" y="10"/>
                  </a:lnTo>
                  <a:close/>
                  <a:moveTo>
                    <a:pt x="10" y="45"/>
                  </a:moveTo>
                  <a:lnTo>
                    <a:pt x="10" y="124"/>
                  </a:lnTo>
                  <a:lnTo>
                    <a:pt x="0" y="124"/>
                  </a:lnTo>
                  <a:lnTo>
                    <a:pt x="0" y="45"/>
                  </a:lnTo>
                  <a:lnTo>
                    <a:pt x="10" y="45"/>
                  </a:lnTo>
                  <a:close/>
                  <a:moveTo>
                    <a:pt x="10" y="154"/>
                  </a:moveTo>
                  <a:lnTo>
                    <a:pt x="10" y="233"/>
                  </a:lnTo>
                  <a:lnTo>
                    <a:pt x="0" y="233"/>
                  </a:lnTo>
                  <a:lnTo>
                    <a:pt x="0" y="154"/>
                  </a:lnTo>
                  <a:lnTo>
                    <a:pt x="10" y="154"/>
                  </a:lnTo>
                  <a:close/>
                  <a:moveTo>
                    <a:pt x="10" y="262"/>
                  </a:moveTo>
                  <a:lnTo>
                    <a:pt x="10" y="341"/>
                  </a:lnTo>
                  <a:lnTo>
                    <a:pt x="0" y="341"/>
                  </a:lnTo>
                  <a:lnTo>
                    <a:pt x="0" y="262"/>
                  </a:lnTo>
                  <a:lnTo>
                    <a:pt x="10" y="262"/>
                  </a:lnTo>
                  <a:close/>
                  <a:moveTo>
                    <a:pt x="10" y="371"/>
                  </a:moveTo>
                  <a:lnTo>
                    <a:pt x="10" y="394"/>
                  </a:lnTo>
                  <a:lnTo>
                    <a:pt x="5" y="389"/>
                  </a:lnTo>
                  <a:lnTo>
                    <a:pt x="61" y="389"/>
                  </a:lnTo>
                  <a:lnTo>
                    <a:pt x="61" y="399"/>
                  </a:lnTo>
                  <a:lnTo>
                    <a:pt x="0" y="399"/>
                  </a:lnTo>
                  <a:lnTo>
                    <a:pt x="0" y="371"/>
                  </a:lnTo>
                  <a:lnTo>
                    <a:pt x="10" y="371"/>
                  </a:lnTo>
                  <a:close/>
                  <a:moveTo>
                    <a:pt x="91" y="389"/>
                  </a:moveTo>
                  <a:lnTo>
                    <a:pt x="170" y="389"/>
                  </a:lnTo>
                  <a:lnTo>
                    <a:pt x="170" y="399"/>
                  </a:lnTo>
                  <a:lnTo>
                    <a:pt x="91" y="399"/>
                  </a:lnTo>
                  <a:lnTo>
                    <a:pt x="91" y="389"/>
                  </a:lnTo>
                  <a:close/>
                  <a:moveTo>
                    <a:pt x="200" y="389"/>
                  </a:moveTo>
                  <a:lnTo>
                    <a:pt x="279" y="389"/>
                  </a:lnTo>
                  <a:lnTo>
                    <a:pt x="279" y="399"/>
                  </a:lnTo>
                  <a:lnTo>
                    <a:pt x="200" y="399"/>
                  </a:lnTo>
                  <a:lnTo>
                    <a:pt x="200" y="389"/>
                  </a:lnTo>
                  <a:close/>
                  <a:moveTo>
                    <a:pt x="309" y="389"/>
                  </a:moveTo>
                  <a:lnTo>
                    <a:pt x="388" y="389"/>
                  </a:lnTo>
                  <a:lnTo>
                    <a:pt x="388" y="399"/>
                  </a:lnTo>
                  <a:lnTo>
                    <a:pt x="309" y="399"/>
                  </a:lnTo>
                  <a:lnTo>
                    <a:pt x="309" y="389"/>
                  </a:lnTo>
                  <a:close/>
                  <a:moveTo>
                    <a:pt x="418" y="389"/>
                  </a:moveTo>
                  <a:lnTo>
                    <a:pt x="497" y="389"/>
                  </a:lnTo>
                  <a:lnTo>
                    <a:pt x="497" y="399"/>
                  </a:lnTo>
                  <a:lnTo>
                    <a:pt x="418" y="399"/>
                  </a:lnTo>
                  <a:lnTo>
                    <a:pt x="418" y="389"/>
                  </a:lnTo>
                  <a:close/>
                  <a:moveTo>
                    <a:pt x="527" y="389"/>
                  </a:moveTo>
                  <a:lnTo>
                    <a:pt x="606" y="389"/>
                  </a:lnTo>
                  <a:lnTo>
                    <a:pt x="606" y="399"/>
                  </a:lnTo>
                  <a:lnTo>
                    <a:pt x="527" y="399"/>
                  </a:lnTo>
                  <a:lnTo>
                    <a:pt x="527" y="389"/>
                  </a:lnTo>
                  <a:close/>
                  <a:moveTo>
                    <a:pt x="636" y="389"/>
                  </a:moveTo>
                  <a:lnTo>
                    <a:pt x="715" y="389"/>
                  </a:lnTo>
                  <a:lnTo>
                    <a:pt x="715" y="399"/>
                  </a:lnTo>
                  <a:lnTo>
                    <a:pt x="636" y="399"/>
                  </a:lnTo>
                  <a:lnTo>
                    <a:pt x="636" y="389"/>
                  </a:lnTo>
                  <a:close/>
                  <a:moveTo>
                    <a:pt x="744" y="389"/>
                  </a:moveTo>
                  <a:lnTo>
                    <a:pt x="824" y="389"/>
                  </a:lnTo>
                  <a:lnTo>
                    <a:pt x="824" y="399"/>
                  </a:lnTo>
                  <a:lnTo>
                    <a:pt x="744" y="399"/>
                  </a:lnTo>
                  <a:lnTo>
                    <a:pt x="744" y="389"/>
                  </a:lnTo>
                  <a:close/>
                  <a:moveTo>
                    <a:pt x="853" y="389"/>
                  </a:moveTo>
                  <a:lnTo>
                    <a:pt x="933" y="389"/>
                  </a:lnTo>
                  <a:lnTo>
                    <a:pt x="933" y="399"/>
                  </a:lnTo>
                  <a:lnTo>
                    <a:pt x="853" y="399"/>
                  </a:lnTo>
                  <a:lnTo>
                    <a:pt x="853" y="389"/>
                  </a:lnTo>
                  <a:close/>
                  <a:moveTo>
                    <a:pt x="962" y="389"/>
                  </a:moveTo>
                  <a:lnTo>
                    <a:pt x="1041" y="389"/>
                  </a:lnTo>
                  <a:lnTo>
                    <a:pt x="1041" y="399"/>
                  </a:lnTo>
                  <a:lnTo>
                    <a:pt x="962" y="399"/>
                  </a:lnTo>
                  <a:lnTo>
                    <a:pt x="962" y="389"/>
                  </a:lnTo>
                  <a:close/>
                  <a:moveTo>
                    <a:pt x="1071" y="389"/>
                  </a:moveTo>
                  <a:lnTo>
                    <a:pt x="1150" y="389"/>
                  </a:lnTo>
                  <a:lnTo>
                    <a:pt x="1150" y="399"/>
                  </a:lnTo>
                  <a:lnTo>
                    <a:pt x="1071" y="399"/>
                  </a:lnTo>
                  <a:lnTo>
                    <a:pt x="1071" y="389"/>
                  </a:lnTo>
                  <a:close/>
                  <a:moveTo>
                    <a:pt x="1180" y="389"/>
                  </a:moveTo>
                  <a:lnTo>
                    <a:pt x="1259" y="389"/>
                  </a:lnTo>
                  <a:lnTo>
                    <a:pt x="1259" y="399"/>
                  </a:lnTo>
                  <a:lnTo>
                    <a:pt x="1180" y="399"/>
                  </a:lnTo>
                  <a:lnTo>
                    <a:pt x="1180" y="389"/>
                  </a:lnTo>
                  <a:close/>
                  <a:moveTo>
                    <a:pt x="1267" y="378"/>
                  </a:moveTo>
                  <a:lnTo>
                    <a:pt x="1267" y="298"/>
                  </a:lnTo>
                  <a:lnTo>
                    <a:pt x="1277" y="298"/>
                  </a:lnTo>
                  <a:lnTo>
                    <a:pt x="1277" y="378"/>
                  </a:lnTo>
                  <a:lnTo>
                    <a:pt x="1267" y="378"/>
                  </a:lnTo>
                  <a:close/>
                  <a:moveTo>
                    <a:pt x="1267" y="269"/>
                  </a:moveTo>
                  <a:lnTo>
                    <a:pt x="1267" y="190"/>
                  </a:lnTo>
                  <a:lnTo>
                    <a:pt x="1277" y="190"/>
                  </a:lnTo>
                  <a:lnTo>
                    <a:pt x="1277" y="269"/>
                  </a:lnTo>
                  <a:lnTo>
                    <a:pt x="1267" y="269"/>
                  </a:lnTo>
                  <a:close/>
                  <a:moveTo>
                    <a:pt x="1267" y="160"/>
                  </a:moveTo>
                  <a:lnTo>
                    <a:pt x="1267" y="81"/>
                  </a:lnTo>
                  <a:lnTo>
                    <a:pt x="1277" y="81"/>
                  </a:lnTo>
                  <a:lnTo>
                    <a:pt x="1277" y="160"/>
                  </a:lnTo>
                  <a:lnTo>
                    <a:pt x="1267" y="160"/>
                  </a:lnTo>
                  <a:close/>
                  <a:moveTo>
                    <a:pt x="1267" y="51"/>
                  </a:moveTo>
                  <a:lnTo>
                    <a:pt x="1267" y="5"/>
                  </a:lnTo>
                  <a:lnTo>
                    <a:pt x="1277" y="5"/>
                  </a:lnTo>
                  <a:lnTo>
                    <a:pt x="1277" y="51"/>
                  </a:lnTo>
                  <a:lnTo>
                    <a:pt x="1267" y="5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96240" y="993600"/>
              <a:ext cx="1538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earch Coordinato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95880" y="1170000"/>
              <a:ext cx="182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lects protocol for pati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98760" y="1344600"/>
              <a:ext cx="74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creening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624040" y="1407960"/>
              <a:ext cx="1200240" cy="61920"/>
            </a:xfrm>
            <a:custGeom>
              <a:avLst/>
              <a:gdLst/>
              <a:ahLst/>
              <a:rect l="l" t="t" r="r" b="b"/>
              <a:pathLst>
                <a:path w="7633" h="400">
                  <a:moveTo>
                    <a:pt x="33" y="167"/>
                  </a:moveTo>
                  <a:lnTo>
                    <a:pt x="500" y="167"/>
                  </a:lnTo>
                  <a:cubicBezTo>
                    <a:pt x="519" y="167"/>
                    <a:pt x="533" y="182"/>
                    <a:pt x="533" y="200"/>
                  </a:cubicBezTo>
                  <a:cubicBezTo>
                    <a:pt x="533" y="219"/>
                    <a:pt x="519" y="234"/>
                    <a:pt x="500" y="234"/>
                  </a:cubicBezTo>
                  <a:lnTo>
                    <a:pt x="33" y="234"/>
                  </a:lnTo>
                  <a:cubicBezTo>
                    <a:pt x="15" y="234"/>
                    <a:pt x="0" y="219"/>
                    <a:pt x="0" y="200"/>
                  </a:cubicBezTo>
                  <a:cubicBezTo>
                    <a:pt x="0" y="182"/>
                    <a:pt x="15" y="167"/>
                    <a:pt x="33" y="167"/>
                  </a:cubicBezTo>
                  <a:close/>
                  <a:moveTo>
                    <a:pt x="767" y="167"/>
                  </a:moveTo>
                  <a:lnTo>
                    <a:pt x="1233" y="167"/>
                  </a:lnTo>
                  <a:cubicBezTo>
                    <a:pt x="1252" y="167"/>
                    <a:pt x="1267" y="182"/>
                    <a:pt x="1267" y="200"/>
                  </a:cubicBezTo>
                  <a:cubicBezTo>
                    <a:pt x="1267" y="219"/>
                    <a:pt x="1252" y="234"/>
                    <a:pt x="1233" y="234"/>
                  </a:cubicBezTo>
                  <a:lnTo>
                    <a:pt x="767" y="234"/>
                  </a:lnTo>
                  <a:cubicBezTo>
                    <a:pt x="748" y="234"/>
                    <a:pt x="733" y="219"/>
                    <a:pt x="733" y="200"/>
                  </a:cubicBezTo>
                  <a:cubicBezTo>
                    <a:pt x="733" y="182"/>
                    <a:pt x="748" y="167"/>
                    <a:pt x="767" y="167"/>
                  </a:cubicBezTo>
                  <a:close/>
                  <a:moveTo>
                    <a:pt x="1500" y="167"/>
                  </a:moveTo>
                  <a:lnTo>
                    <a:pt x="1967" y="167"/>
                  </a:lnTo>
                  <a:cubicBezTo>
                    <a:pt x="1985" y="167"/>
                    <a:pt x="2000" y="182"/>
                    <a:pt x="2000" y="200"/>
                  </a:cubicBezTo>
                  <a:cubicBezTo>
                    <a:pt x="2000" y="219"/>
                    <a:pt x="1985" y="234"/>
                    <a:pt x="1967" y="234"/>
                  </a:cubicBezTo>
                  <a:lnTo>
                    <a:pt x="1500" y="234"/>
                  </a:lnTo>
                  <a:cubicBezTo>
                    <a:pt x="1482" y="234"/>
                    <a:pt x="1467" y="219"/>
                    <a:pt x="1467" y="200"/>
                  </a:cubicBezTo>
                  <a:cubicBezTo>
                    <a:pt x="1467" y="182"/>
                    <a:pt x="1482" y="167"/>
                    <a:pt x="1500" y="167"/>
                  </a:cubicBezTo>
                  <a:close/>
                  <a:moveTo>
                    <a:pt x="2233" y="167"/>
                  </a:moveTo>
                  <a:lnTo>
                    <a:pt x="2700" y="167"/>
                  </a:lnTo>
                  <a:cubicBezTo>
                    <a:pt x="2719" y="167"/>
                    <a:pt x="2733" y="182"/>
                    <a:pt x="2733" y="200"/>
                  </a:cubicBezTo>
                  <a:cubicBezTo>
                    <a:pt x="2733" y="219"/>
                    <a:pt x="2719" y="234"/>
                    <a:pt x="2700" y="234"/>
                  </a:cubicBezTo>
                  <a:lnTo>
                    <a:pt x="2233" y="234"/>
                  </a:lnTo>
                  <a:cubicBezTo>
                    <a:pt x="2215" y="234"/>
                    <a:pt x="2200" y="219"/>
                    <a:pt x="2200" y="200"/>
                  </a:cubicBezTo>
                  <a:cubicBezTo>
                    <a:pt x="2200" y="182"/>
                    <a:pt x="2215" y="167"/>
                    <a:pt x="2233" y="167"/>
                  </a:cubicBezTo>
                  <a:close/>
                  <a:moveTo>
                    <a:pt x="2967" y="167"/>
                  </a:moveTo>
                  <a:lnTo>
                    <a:pt x="3433" y="167"/>
                  </a:lnTo>
                  <a:cubicBezTo>
                    <a:pt x="3452" y="167"/>
                    <a:pt x="3467" y="182"/>
                    <a:pt x="3467" y="200"/>
                  </a:cubicBezTo>
                  <a:cubicBezTo>
                    <a:pt x="3467" y="219"/>
                    <a:pt x="3452" y="234"/>
                    <a:pt x="3433" y="234"/>
                  </a:cubicBezTo>
                  <a:lnTo>
                    <a:pt x="2967" y="234"/>
                  </a:lnTo>
                  <a:cubicBezTo>
                    <a:pt x="2948" y="234"/>
                    <a:pt x="2933" y="219"/>
                    <a:pt x="2933" y="200"/>
                  </a:cubicBezTo>
                  <a:cubicBezTo>
                    <a:pt x="2933" y="182"/>
                    <a:pt x="2948" y="167"/>
                    <a:pt x="2967" y="167"/>
                  </a:cubicBezTo>
                  <a:close/>
                  <a:moveTo>
                    <a:pt x="3700" y="167"/>
                  </a:moveTo>
                  <a:lnTo>
                    <a:pt x="4167" y="167"/>
                  </a:lnTo>
                  <a:cubicBezTo>
                    <a:pt x="4185" y="167"/>
                    <a:pt x="4200" y="182"/>
                    <a:pt x="4200" y="200"/>
                  </a:cubicBezTo>
                  <a:cubicBezTo>
                    <a:pt x="4200" y="219"/>
                    <a:pt x="4185" y="234"/>
                    <a:pt x="4167" y="234"/>
                  </a:cubicBezTo>
                  <a:lnTo>
                    <a:pt x="3700" y="234"/>
                  </a:lnTo>
                  <a:cubicBezTo>
                    <a:pt x="3682" y="234"/>
                    <a:pt x="3667" y="219"/>
                    <a:pt x="3667" y="200"/>
                  </a:cubicBezTo>
                  <a:cubicBezTo>
                    <a:pt x="3667" y="182"/>
                    <a:pt x="3682" y="167"/>
                    <a:pt x="3700" y="167"/>
                  </a:cubicBezTo>
                  <a:close/>
                  <a:moveTo>
                    <a:pt x="4433" y="167"/>
                  </a:moveTo>
                  <a:lnTo>
                    <a:pt x="4900" y="167"/>
                  </a:lnTo>
                  <a:cubicBezTo>
                    <a:pt x="4919" y="167"/>
                    <a:pt x="4933" y="182"/>
                    <a:pt x="4933" y="200"/>
                  </a:cubicBezTo>
                  <a:cubicBezTo>
                    <a:pt x="4933" y="219"/>
                    <a:pt x="4919" y="234"/>
                    <a:pt x="4900" y="234"/>
                  </a:cubicBezTo>
                  <a:lnTo>
                    <a:pt x="4433" y="234"/>
                  </a:lnTo>
                  <a:cubicBezTo>
                    <a:pt x="4415" y="234"/>
                    <a:pt x="4400" y="219"/>
                    <a:pt x="4400" y="200"/>
                  </a:cubicBezTo>
                  <a:cubicBezTo>
                    <a:pt x="4400" y="182"/>
                    <a:pt x="4415" y="167"/>
                    <a:pt x="4433" y="167"/>
                  </a:cubicBezTo>
                  <a:close/>
                  <a:moveTo>
                    <a:pt x="5167" y="167"/>
                  </a:moveTo>
                  <a:lnTo>
                    <a:pt x="5633" y="167"/>
                  </a:lnTo>
                  <a:cubicBezTo>
                    <a:pt x="5652" y="167"/>
                    <a:pt x="5667" y="182"/>
                    <a:pt x="5667" y="200"/>
                  </a:cubicBezTo>
                  <a:cubicBezTo>
                    <a:pt x="5667" y="219"/>
                    <a:pt x="5652" y="234"/>
                    <a:pt x="5633" y="234"/>
                  </a:cubicBezTo>
                  <a:lnTo>
                    <a:pt x="5167" y="234"/>
                  </a:lnTo>
                  <a:cubicBezTo>
                    <a:pt x="5148" y="234"/>
                    <a:pt x="5133" y="219"/>
                    <a:pt x="5133" y="200"/>
                  </a:cubicBezTo>
                  <a:cubicBezTo>
                    <a:pt x="5133" y="182"/>
                    <a:pt x="5148" y="167"/>
                    <a:pt x="5167" y="167"/>
                  </a:cubicBezTo>
                  <a:close/>
                  <a:moveTo>
                    <a:pt x="5900" y="167"/>
                  </a:moveTo>
                  <a:lnTo>
                    <a:pt x="6367" y="167"/>
                  </a:lnTo>
                  <a:cubicBezTo>
                    <a:pt x="6385" y="167"/>
                    <a:pt x="6400" y="182"/>
                    <a:pt x="6400" y="200"/>
                  </a:cubicBezTo>
                  <a:cubicBezTo>
                    <a:pt x="6400" y="219"/>
                    <a:pt x="6385" y="234"/>
                    <a:pt x="6367" y="234"/>
                  </a:cubicBezTo>
                  <a:lnTo>
                    <a:pt x="5900" y="234"/>
                  </a:lnTo>
                  <a:cubicBezTo>
                    <a:pt x="5882" y="234"/>
                    <a:pt x="5867" y="219"/>
                    <a:pt x="5867" y="200"/>
                  </a:cubicBezTo>
                  <a:cubicBezTo>
                    <a:pt x="5867" y="182"/>
                    <a:pt x="5882" y="167"/>
                    <a:pt x="5900" y="167"/>
                  </a:cubicBezTo>
                  <a:close/>
                  <a:moveTo>
                    <a:pt x="6633" y="167"/>
                  </a:moveTo>
                  <a:lnTo>
                    <a:pt x="7100" y="167"/>
                  </a:lnTo>
                  <a:cubicBezTo>
                    <a:pt x="7119" y="167"/>
                    <a:pt x="7133" y="182"/>
                    <a:pt x="7133" y="200"/>
                  </a:cubicBezTo>
                  <a:cubicBezTo>
                    <a:pt x="7133" y="219"/>
                    <a:pt x="7119" y="234"/>
                    <a:pt x="7100" y="234"/>
                  </a:cubicBezTo>
                  <a:lnTo>
                    <a:pt x="6633" y="234"/>
                  </a:lnTo>
                  <a:cubicBezTo>
                    <a:pt x="6615" y="234"/>
                    <a:pt x="6600" y="219"/>
                    <a:pt x="6600" y="200"/>
                  </a:cubicBezTo>
                  <a:cubicBezTo>
                    <a:pt x="6600" y="182"/>
                    <a:pt x="6615" y="167"/>
                    <a:pt x="6633" y="167"/>
                  </a:cubicBezTo>
                  <a:close/>
                  <a:moveTo>
                    <a:pt x="7233" y="0"/>
                  </a:moveTo>
                  <a:lnTo>
                    <a:pt x="7633" y="200"/>
                  </a:lnTo>
                  <a:lnTo>
                    <a:pt x="7233" y="400"/>
                  </a:lnTo>
                  <a:lnTo>
                    <a:pt x="7233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73200" y="3062160"/>
              <a:ext cx="1334880" cy="1684440"/>
            </a:xfrm>
            <a:custGeom>
              <a:avLst/>
              <a:gdLst/>
              <a:ahLst/>
              <a:rect l="l" t="t" r="r" b="b"/>
              <a:pathLst>
                <a:path w="841" h="1061">
                  <a:moveTo>
                    <a:pt x="836" y="10"/>
                  </a:moveTo>
                  <a:lnTo>
                    <a:pt x="757" y="10"/>
                  </a:lnTo>
                  <a:lnTo>
                    <a:pt x="757" y="0"/>
                  </a:lnTo>
                  <a:lnTo>
                    <a:pt x="836" y="0"/>
                  </a:lnTo>
                  <a:lnTo>
                    <a:pt x="836" y="10"/>
                  </a:lnTo>
                  <a:close/>
                  <a:moveTo>
                    <a:pt x="728" y="10"/>
                  </a:moveTo>
                  <a:lnTo>
                    <a:pt x="648" y="10"/>
                  </a:lnTo>
                  <a:lnTo>
                    <a:pt x="648" y="0"/>
                  </a:lnTo>
                  <a:lnTo>
                    <a:pt x="728" y="0"/>
                  </a:lnTo>
                  <a:lnTo>
                    <a:pt x="728" y="10"/>
                  </a:lnTo>
                  <a:close/>
                  <a:moveTo>
                    <a:pt x="619" y="10"/>
                  </a:moveTo>
                  <a:lnTo>
                    <a:pt x="539" y="10"/>
                  </a:lnTo>
                  <a:lnTo>
                    <a:pt x="539" y="0"/>
                  </a:lnTo>
                  <a:lnTo>
                    <a:pt x="619" y="0"/>
                  </a:lnTo>
                  <a:lnTo>
                    <a:pt x="619" y="10"/>
                  </a:lnTo>
                  <a:close/>
                  <a:moveTo>
                    <a:pt x="510" y="10"/>
                  </a:moveTo>
                  <a:lnTo>
                    <a:pt x="431" y="10"/>
                  </a:lnTo>
                  <a:lnTo>
                    <a:pt x="431" y="0"/>
                  </a:lnTo>
                  <a:lnTo>
                    <a:pt x="510" y="0"/>
                  </a:lnTo>
                  <a:lnTo>
                    <a:pt x="510" y="10"/>
                  </a:lnTo>
                  <a:close/>
                  <a:moveTo>
                    <a:pt x="401" y="10"/>
                  </a:moveTo>
                  <a:lnTo>
                    <a:pt x="322" y="10"/>
                  </a:lnTo>
                  <a:lnTo>
                    <a:pt x="322" y="0"/>
                  </a:lnTo>
                  <a:lnTo>
                    <a:pt x="401" y="0"/>
                  </a:lnTo>
                  <a:lnTo>
                    <a:pt x="401" y="10"/>
                  </a:lnTo>
                  <a:close/>
                  <a:moveTo>
                    <a:pt x="292" y="10"/>
                  </a:moveTo>
                  <a:lnTo>
                    <a:pt x="213" y="10"/>
                  </a:lnTo>
                  <a:lnTo>
                    <a:pt x="213" y="0"/>
                  </a:lnTo>
                  <a:lnTo>
                    <a:pt x="292" y="0"/>
                  </a:lnTo>
                  <a:lnTo>
                    <a:pt x="292" y="10"/>
                  </a:lnTo>
                  <a:close/>
                  <a:moveTo>
                    <a:pt x="183" y="10"/>
                  </a:moveTo>
                  <a:lnTo>
                    <a:pt x="104" y="10"/>
                  </a:lnTo>
                  <a:lnTo>
                    <a:pt x="104" y="0"/>
                  </a:lnTo>
                  <a:lnTo>
                    <a:pt x="183" y="0"/>
                  </a:lnTo>
                  <a:lnTo>
                    <a:pt x="183" y="10"/>
                  </a:lnTo>
                  <a:close/>
                  <a:moveTo>
                    <a:pt x="74" y="10"/>
                  </a:moveTo>
                  <a:lnTo>
                    <a:pt x="5" y="10"/>
                  </a:lnTo>
                  <a:lnTo>
                    <a:pt x="10" y="5"/>
                  </a:lnTo>
                  <a:lnTo>
                    <a:pt x="10" y="15"/>
                  </a:lnTo>
                  <a:lnTo>
                    <a:pt x="0" y="15"/>
                  </a:lnTo>
                  <a:lnTo>
                    <a:pt x="0" y="0"/>
                  </a:lnTo>
                  <a:lnTo>
                    <a:pt x="74" y="0"/>
                  </a:lnTo>
                  <a:lnTo>
                    <a:pt x="74" y="10"/>
                  </a:lnTo>
                  <a:close/>
                  <a:moveTo>
                    <a:pt x="10" y="45"/>
                  </a:moveTo>
                  <a:lnTo>
                    <a:pt x="10" y="124"/>
                  </a:lnTo>
                  <a:lnTo>
                    <a:pt x="0" y="124"/>
                  </a:lnTo>
                  <a:lnTo>
                    <a:pt x="0" y="45"/>
                  </a:lnTo>
                  <a:lnTo>
                    <a:pt x="10" y="45"/>
                  </a:lnTo>
                  <a:close/>
                  <a:moveTo>
                    <a:pt x="10" y="153"/>
                  </a:moveTo>
                  <a:lnTo>
                    <a:pt x="10" y="232"/>
                  </a:lnTo>
                  <a:lnTo>
                    <a:pt x="0" y="232"/>
                  </a:lnTo>
                  <a:lnTo>
                    <a:pt x="0" y="153"/>
                  </a:lnTo>
                  <a:lnTo>
                    <a:pt x="10" y="153"/>
                  </a:lnTo>
                  <a:close/>
                  <a:moveTo>
                    <a:pt x="10" y="262"/>
                  </a:moveTo>
                  <a:lnTo>
                    <a:pt x="10" y="341"/>
                  </a:lnTo>
                  <a:lnTo>
                    <a:pt x="0" y="341"/>
                  </a:lnTo>
                  <a:lnTo>
                    <a:pt x="0" y="262"/>
                  </a:lnTo>
                  <a:lnTo>
                    <a:pt x="10" y="262"/>
                  </a:lnTo>
                  <a:close/>
                  <a:moveTo>
                    <a:pt x="10" y="371"/>
                  </a:moveTo>
                  <a:lnTo>
                    <a:pt x="10" y="450"/>
                  </a:lnTo>
                  <a:lnTo>
                    <a:pt x="0" y="450"/>
                  </a:lnTo>
                  <a:lnTo>
                    <a:pt x="0" y="371"/>
                  </a:lnTo>
                  <a:lnTo>
                    <a:pt x="10" y="371"/>
                  </a:lnTo>
                  <a:close/>
                  <a:moveTo>
                    <a:pt x="10" y="479"/>
                  </a:moveTo>
                  <a:lnTo>
                    <a:pt x="10" y="558"/>
                  </a:lnTo>
                  <a:lnTo>
                    <a:pt x="0" y="558"/>
                  </a:lnTo>
                  <a:lnTo>
                    <a:pt x="0" y="479"/>
                  </a:lnTo>
                  <a:lnTo>
                    <a:pt x="10" y="479"/>
                  </a:lnTo>
                  <a:close/>
                  <a:moveTo>
                    <a:pt x="10" y="588"/>
                  </a:moveTo>
                  <a:lnTo>
                    <a:pt x="10" y="667"/>
                  </a:lnTo>
                  <a:lnTo>
                    <a:pt x="0" y="667"/>
                  </a:lnTo>
                  <a:lnTo>
                    <a:pt x="0" y="588"/>
                  </a:lnTo>
                  <a:lnTo>
                    <a:pt x="10" y="588"/>
                  </a:lnTo>
                  <a:close/>
                  <a:moveTo>
                    <a:pt x="10" y="697"/>
                  </a:moveTo>
                  <a:lnTo>
                    <a:pt x="10" y="776"/>
                  </a:lnTo>
                  <a:lnTo>
                    <a:pt x="0" y="776"/>
                  </a:lnTo>
                  <a:lnTo>
                    <a:pt x="0" y="697"/>
                  </a:lnTo>
                  <a:lnTo>
                    <a:pt x="10" y="697"/>
                  </a:lnTo>
                  <a:close/>
                  <a:moveTo>
                    <a:pt x="10" y="805"/>
                  </a:moveTo>
                  <a:lnTo>
                    <a:pt x="10" y="885"/>
                  </a:lnTo>
                  <a:lnTo>
                    <a:pt x="0" y="885"/>
                  </a:lnTo>
                  <a:lnTo>
                    <a:pt x="0" y="805"/>
                  </a:lnTo>
                  <a:lnTo>
                    <a:pt x="10" y="805"/>
                  </a:lnTo>
                  <a:close/>
                  <a:moveTo>
                    <a:pt x="10" y="914"/>
                  </a:moveTo>
                  <a:lnTo>
                    <a:pt x="10" y="993"/>
                  </a:lnTo>
                  <a:lnTo>
                    <a:pt x="0" y="993"/>
                  </a:lnTo>
                  <a:lnTo>
                    <a:pt x="0" y="914"/>
                  </a:lnTo>
                  <a:lnTo>
                    <a:pt x="10" y="914"/>
                  </a:lnTo>
                  <a:close/>
                  <a:moveTo>
                    <a:pt x="10" y="1023"/>
                  </a:moveTo>
                  <a:lnTo>
                    <a:pt x="10" y="1056"/>
                  </a:lnTo>
                  <a:lnTo>
                    <a:pt x="5" y="1051"/>
                  </a:lnTo>
                  <a:lnTo>
                    <a:pt x="51" y="1051"/>
                  </a:lnTo>
                  <a:lnTo>
                    <a:pt x="51" y="1061"/>
                  </a:lnTo>
                  <a:lnTo>
                    <a:pt x="0" y="1061"/>
                  </a:lnTo>
                  <a:lnTo>
                    <a:pt x="0" y="1023"/>
                  </a:lnTo>
                  <a:lnTo>
                    <a:pt x="10" y="1023"/>
                  </a:lnTo>
                  <a:close/>
                  <a:moveTo>
                    <a:pt x="81" y="1051"/>
                  </a:moveTo>
                  <a:lnTo>
                    <a:pt x="160" y="1051"/>
                  </a:lnTo>
                  <a:lnTo>
                    <a:pt x="160" y="1061"/>
                  </a:lnTo>
                  <a:lnTo>
                    <a:pt x="81" y="1061"/>
                  </a:lnTo>
                  <a:lnTo>
                    <a:pt x="81" y="1051"/>
                  </a:lnTo>
                  <a:close/>
                  <a:moveTo>
                    <a:pt x="190" y="1051"/>
                  </a:moveTo>
                  <a:lnTo>
                    <a:pt x="269" y="1051"/>
                  </a:lnTo>
                  <a:lnTo>
                    <a:pt x="269" y="1061"/>
                  </a:lnTo>
                  <a:lnTo>
                    <a:pt x="190" y="1061"/>
                  </a:lnTo>
                  <a:lnTo>
                    <a:pt x="190" y="1051"/>
                  </a:lnTo>
                  <a:close/>
                  <a:moveTo>
                    <a:pt x="299" y="1051"/>
                  </a:moveTo>
                  <a:lnTo>
                    <a:pt x="378" y="1051"/>
                  </a:lnTo>
                  <a:lnTo>
                    <a:pt x="378" y="1061"/>
                  </a:lnTo>
                  <a:lnTo>
                    <a:pt x="299" y="1061"/>
                  </a:lnTo>
                  <a:lnTo>
                    <a:pt x="299" y="1051"/>
                  </a:lnTo>
                  <a:close/>
                  <a:moveTo>
                    <a:pt x="407" y="1051"/>
                  </a:moveTo>
                  <a:lnTo>
                    <a:pt x="487" y="1051"/>
                  </a:lnTo>
                  <a:lnTo>
                    <a:pt x="487" y="1061"/>
                  </a:lnTo>
                  <a:lnTo>
                    <a:pt x="407" y="1061"/>
                  </a:lnTo>
                  <a:lnTo>
                    <a:pt x="407" y="1051"/>
                  </a:lnTo>
                  <a:close/>
                  <a:moveTo>
                    <a:pt x="516" y="1051"/>
                  </a:moveTo>
                  <a:lnTo>
                    <a:pt x="596" y="1051"/>
                  </a:lnTo>
                  <a:lnTo>
                    <a:pt x="596" y="1061"/>
                  </a:lnTo>
                  <a:lnTo>
                    <a:pt x="516" y="1061"/>
                  </a:lnTo>
                  <a:lnTo>
                    <a:pt x="516" y="1051"/>
                  </a:lnTo>
                  <a:close/>
                  <a:moveTo>
                    <a:pt x="625" y="1051"/>
                  </a:moveTo>
                  <a:lnTo>
                    <a:pt x="704" y="1051"/>
                  </a:lnTo>
                  <a:lnTo>
                    <a:pt x="704" y="1061"/>
                  </a:lnTo>
                  <a:lnTo>
                    <a:pt x="625" y="1061"/>
                  </a:lnTo>
                  <a:lnTo>
                    <a:pt x="625" y="1051"/>
                  </a:lnTo>
                  <a:close/>
                  <a:moveTo>
                    <a:pt x="734" y="1051"/>
                  </a:moveTo>
                  <a:lnTo>
                    <a:pt x="813" y="1051"/>
                  </a:lnTo>
                  <a:lnTo>
                    <a:pt x="813" y="1061"/>
                  </a:lnTo>
                  <a:lnTo>
                    <a:pt x="734" y="1061"/>
                  </a:lnTo>
                  <a:lnTo>
                    <a:pt x="734" y="1051"/>
                  </a:lnTo>
                  <a:close/>
                  <a:moveTo>
                    <a:pt x="831" y="1049"/>
                  </a:moveTo>
                  <a:lnTo>
                    <a:pt x="831" y="970"/>
                  </a:lnTo>
                  <a:lnTo>
                    <a:pt x="841" y="970"/>
                  </a:lnTo>
                  <a:lnTo>
                    <a:pt x="841" y="1049"/>
                  </a:lnTo>
                  <a:lnTo>
                    <a:pt x="831" y="1049"/>
                  </a:lnTo>
                  <a:close/>
                  <a:moveTo>
                    <a:pt x="831" y="941"/>
                  </a:moveTo>
                  <a:lnTo>
                    <a:pt x="831" y="862"/>
                  </a:lnTo>
                  <a:lnTo>
                    <a:pt x="841" y="862"/>
                  </a:lnTo>
                  <a:lnTo>
                    <a:pt x="841" y="941"/>
                  </a:lnTo>
                  <a:lnTo>
                    <a:pt x="831" y="941"/>
                  </a:lnTo>
                  <a:close/>
                  <a:moveTo>
                    <a:pt x="831" y="832"/>
                  </a:moveTo>
                  <a:lnTo>
                    <a:pt x="831" y="753"/>
                  </a:lnTo>
                  <a:lnTo>
                    <a:pt x="841" y="753"/>
                  </a:lnTo>
                  <a:lnTo>
                    <a:pt x="841" y="832"/>
                  </a:lnTo>
                  <a:lnTo>
                    <a:pt x="831" y="832"/>
                  </a:lnTo>
                  <a:close/>
                  <a:moveTo>
                    <a:pt x="831" y="723"/>
                  </a:moveTo>
                  <a:lnTo>
                    <a:pt x="831" y="644"/>
                  </a:lnTo>
                  <a:lnTo>
                    <a:pt x="841" y="644"/>
                  </a:lnTo>
                  <a:lnTo>
                    <a:pt x="841" y="723"/>
                  </a:lnTo>
                  <a:lnTo>
                    <a:pt x="831" y="723"/>
                  </a:lnTo>
                  <a:close/>
                  <a:moveTo>
                    <a:pt x="831" y="614"/>
                  </a:moveTo>
                  <a:lnTo>
                    <a:pt x="831" y="535"/>
                  </a:lnTo>
                  <a:lnTo>
                    <a:pt x="841" y="535"/>
                  </a:lnTo>
                  <a:lnTo>
                    <a:pt x="841" y="614"/>
                  </a:lnTo>
                  <a:lnTo>
                    <a:pt x="831" y="614"/>
                  </a:lnTo>
                  <a:close/>
                  <a:moveTo>
                    <a:pt x="831" y="506"/>
                  </a:moveTo>
                  <a:lnTo>
                    <a:pt x="831" y="427"/>
                  </a:lnTo>
                  <a:lnTo>
                    <a:pt x="841" y="427"/>
                  </a:lnTo>
                  <a:lnTo>
                    <a:pt x="841" y="506"/>
                  </a:lnTo>
                  <a:lnTo>
                    <a:pt x="831" y="506"/>
                  </a:lnTo>
                  <a:close/>
                  <a:moveTo>
                    <a:pt x="831" y="397"/>
                  </a:moveTo>
                  <a:lnTo>
                    <a:pt x="831" y="318"/>
                  </a:lnTo>
                  <a:lnTo>
                    <a:pt x="841" y="318"/>
                  </a:lnTo>
                  <a:lnTo>
                    <a:pt x="841" y="397"/>
                  </a:lnTo>
                  <a:lnTo>
                    <a:pt x="831" y="397"/>
                  </a:lnTo>
                  <a:close/>
                  <a:moveTo>
                    <a:pt x="831" y="288"/>
                  </a:moveTo>
                  <a:lnTo>
                    <a:pt x="831" y="209"/>
                  </a:lnTo>
                  <a:lnTo>
                    <a:pt x="841" y="209"/>
                  </a:lnTo>
                  <a:lnTo>
                    <a:pt x="841" y="288"/>
                  </a:lnTo>
                  <a:lnTo>
                    <a:pt x="831" y="288"/>
                  </a:lnTo>
                  <a:close/>
                  <a:moveTo>
                    <a:pt x="831" y="180"/>
                  </a:moveTo>
                  <a:lnTo>
                    <a:pt x="831" y="101"/>
                  </a:lnTo>
                  <a:lnTo>
                    <a:pt x="841" y="101"/>
                  </a:lnTo>
                  <a:lnTo>
                    <a:pt x="841" y="180"/>
                  </a:lnTo>
                  <a:lnTo>
                    <a:pt x="831" y="180"/>
                  </a:lnTo>
                  <a:close/>
                  <a:moveTo>
                    <a:pt x="831" y="71"/>
                  </a:moveTo>
                  <a:lnTo>
                    <a:pt x="831" y="5"/>
                  </a:lnTo>
                  <a:lnTo>
                    <a:pt x="841" y="5"/>
                  </a:lnTo>
                  <a:lnTo>
                    <a:pt x="841" y="71"/>
                  </a:lnTo>
                  <a:lnTo>
                    <a:pt x="831" y="7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62480" y="3127320"/>
              <a:ext cx="697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earch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61760" y="3303720"/>
              <a:ext cx="842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ordinato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63560" y="3478320"/>
              <a:ext cx="823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iews list of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61040" y="3651120"/>
              <a:ext cx="878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tients and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62480" y="3827520"/>
              <a:ext cx="951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lects which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59240" y="4003560"/>
              <a:ext cx="1227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nes to approach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62120" y="4178160"/>
              <a:ext cx="893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 person fo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59600" y="4354560"/>
              <a:ext cx="1040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valuation and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63560" y="4527360"/>
              <a:ext cx="806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cruitment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46440" y="1873080"/>
              <a:ext cx="63720" cy="444600"/>
            </a:xfrm>
            <a:custGeom>
              <a:avLst/>
              <a:gdLst/>
              <a:ahLst/>
              <a:rect l="l" t="t" r="r" b="b"/>
              <a:pathLst>
                <a:path w="400" h="2833">
                  <a:moveTo>
                    <a:pt x="234" y="33"/>
                  </a:moveTo>
                  <a:lnTo>
                    <a:pt x="234" y="2500"/>
                  </a:lnTo>
                  <a:cubicBezTo>
                    <a:pt x="234" y="2519"/>
                    <a:pt x="219" y="2533"/>
                    <a:pt x="200" y="2533"/>
                  </a:cubicBezTo>
                  <a:cubicBezTo>
                    <a:pt x="182" y="2533"/>
                    <a:pt x="167" y="2519"/>
                    <a:pt x="167" y="2500"/>
                  </a:cubicBezTo>
                  <a:lnTo>
                    <a:pt x="167" y="33"/>
                  </a:lnTo>
                  <a:cubicBezTo>
                    <a:pt x="167" y="15"/>
                    <a:pt x="182" y="0"/>
                    <a:pt x="200" y="0"/>
                  </a:cubicBezTo>
                  <a:cubicBezTo>
                    <a:pt x="219" y="0"/>
                    <a:pt x="234" y="15"/>
                    <a:pt x="234" y="33"/>
                  </a:cubicBezTo>
                  <a:close/>
                  <a:moveTo>
                    <a:pt x="400" y="2433"/>
                  </a:moveTo>
                  <a:lnTo>
                    <a:pt x="200" y="2833"/>
                  </a:lnTo>
                  <a:lnTo>
                    <a:pt x="0" y="2433"/>
                  </a:lnTo>
                  <a:lnTo>
                    <a:pt x="400" y="243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000160" y="4419720"/>
              <a:ext cx="503280" cy="61920"/>
            </a:xfrm>
            <a:custGeom>
              <a:avLst/>
              <a:gdLst/>
              <a:ahLst/>
              <a:rect l="l" t="t" r="r" b="b"/>
              <a:pathLst>
                <a:path w="317" h="39">
                  <a:moveTo>
                    <a:pt x="317" y="24"/>
                  </a:moveTo>
                  <a:lnTo>
                    <a:pt x="251" y="24"/>
                  </a:lnTo>
                  <a:lnTo>
                    <a:pt x="251" y="16"/>
                  </a:lnTo>
                  <a:lnTo>
                    <a:pt x="317" y="16"/>
                  </a:lnTo>
                  <a:lnTo>
                    <a:pt x="317" y="24"/>
                  </a:lnTo>
                  <a:close/>
                  <a:moveTo>
                    <a:pt x="227" y="24"/>
                  </a:moveTo>
                  <a:lnTo>
                    <a:pt x="161" y="24"/>
                  </a:lnTo>
                  <a:lnTo>
                    <a:pt x="161" y="16"/>
                  </a:lnTo>
                  <a:lnTo>
                    <a:pt x="227" y="16"/>
                  </a:lnTo>
                  <a:lnTo>
                    <a:pt x="227" y="24"/>
                  </a:lnTo>
                  <a:close/>
                  <a:moveTo>
                    <a:pt x="136" y="24"/>
                  </a:moveTo>
                  <a:lnTo>
                    <a:pt x="70" y="24"/>
                  </a:lnTo>
                  <a:lnTo>
                    <a:pt x="70" y="16"/>
                  </a:lnTo>
                  <a:lnTo>
                    <a:pt x="136" y="16"/>
                  </a:lnTo>
                  <a:lnTo>
                    <a:pt x="136" y="24"/>
                  </a:lnTo>
                  <a:close/>
                  <a:moveTo>
                    <a:pt x="45" y="24"/>
                  </a:moveTo>
                  <a:lnTo>
                    <a:pt x="33" y="24"/>
                  </a:lnTo>
                  <a:lnTo>
                    <a:pt x="33" y="16"/>
                  </a:lnTo>
                  <a:lnTo>
                    <a:pt x="45" y="16"/>
                  </a:lnTo>
                  <a:lnTo>
                    <a:pt x="45" y="24"/>
                  </a:lnTo>
                  <a:close/>
                  <a:moveTo>
                    <a:pt x="40" y="39"/>
                  </a:moveTo>
                  <a:lnTo>
                    <a:pt x="0" y="20"/>
                  </a:lnTo>
                  <a:lnTo>
                    <a:pt x="40" y="0"/>
                  </a:lnTo>
                  <a:lnTo>
                    <a:pt x="40" y="39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10160" y="3505320"/>
              <a:ext cx="61920" cy="569880"/>
            </a:xfrm>
            <a:custGeom>
              <a:avLst/>
              <a:gdLst/>
              <a:ahLst/>
              <a:rect l="l" t="t" r="r" b="b"/>
              <a:pathLst>
                <a:path w="400" h="3633">
                  <a:moveTo>
                    <a:pt x="234" y="33"/>
                  </a:moveTo>
                  <a:lnTo>
                    <a:pt x="234" y="3300"/>
                  </a:lnTo>
                  <a:cubicBezTo>
                    <a:pt x="234" y="3319"/>
                    <a:pt x="219" y="3333"/>
                    <a:pt x="200" y="3333"/>
                  </a:cubicBezTo>
                  <a:cubicBezTo>
                    <a:pt x="182" y="3333"/>
                    <a:pt x="167" y="3319"/>
                    <a:pt x="167" y="3300"/>
                  </a:cubicBezTo>
                  <a:lnTo>
                    <a:pt x="167" y="33"/>
                  </a:lnTo>
                  <a:cubicBezTo>
                    <a:pt x="167" y="15"/>
                    <a:pt x="182" y="0"/>
                    <a:pt x="200" y="0"/>
                  </a:cubicBezTo>
                  <a:cubicBezTo>
                    <a:pt x="219" y="0"/>
                    <a:pt x="234" y="15"/>
                    <a:pt x="234" y="33"/>
                  </a:cubicBezTo>
                  <a:close/>
                  <a:moveTo>
                    <a:pt x="400" y="3233"/>
                  </a:moveTo>
                  <a:lnTo>
                    <a:pt x="200" y="3633"/>
                  </a:lnTo>
                  <a:lnTo>
                    <a:pt x="0" y="3233"/>
                  </a:lnTo>
                  <a:lnTo>
                    <a:pt x="400" y="323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70120" y="1690560"/>
              <a:ext cx="250560" cy="1254240"/>
            </a:xfrm>
            <a:custGeom>
              <a:avLst/>
              <a:gdLst/>
              <a:ahLst/>
              <a:rect l="l" t="t" r="r" b="b"/>
              <a:pathLst>
                <a:path w="158" h="790">
                  <a:moveTo>
                    <a:pt x="0" y="592"/>
                  </a:moveTo>
                  <a:lnTo>
                    <a:pt x="39" y="592"/>
                  </a:lnTo>
                  <a:lnTo>
                    <a:pt x="39" y="0"/>
                  </a:lnTo>
                  <a:lnTo>
                    <a:pt x="118" y="0"/>
                  </a:lnTo>
                  <a:lnTo>
                    <a:pt x="118" y="592"/>
                  </a:lnTo>
                  <a:lnTo>
                    <a:pt x="158" y="592"/>
                  </a:lnTo>
                  <a:lnTo>
                    <a:pt x="79" y="790"/>
                  </a:lnTo>
                  <a:lnTo>
                    <a:pt x="0" y="592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73200" y="5357880"/>
              <a:ext cx="1334880" cy="633240"/>
            </a:xfrm>
            <a:custGeom>
              <a:avLst/>
              <a:gdLst/>
              <a:ahLst/>
              <a:rect l="l" t="t" r="r" b="b"/>
              <a:pathLst>
                <a:path w="841" h="399">
                  <a:moveTo>
                    <a:pt x="836" y="10"/>
                  </a:moveTo>
                  <a:lnTo>
                    <a:pt x="757" y="10"/>
                  </a:lnTo>
                  <a:lnTo>
                    <a:pt x="757" y="0"/>
                  </a:lnTo>
                  <a:lnTo>
                    <a:pt x="836" y="0"/>
                  </a:lnTo>
                  <a:lnTo>
                    <a:pt x="836" y="10"/>
                  </a:lnTo>
                  <a:close/>
                  <a:moveTo>
                    <a:pt x="728" y="10"/>
                  </a:moveTo>
                  <a:lnTo>
                    <a:pt x="648" y="10"/>
                  </a:lnTo>
                  <a:lnTo>
                    <a:pt x="648" y="0"/>
                  </a:lnTo>
                  <a:lnTo>
                    <a:pt x="728" y="0"/>
                  </a:lnTo>
                  <a:lnTo>
                    <a:pt x="728" y="10"/>
                  </a:lnTo>
                  <a:close/>
                  <a:moveTo>
                    <a:pt x="619" y="10"/>
                  </a:moveTo>
                  <a:lnTo>
                    <a:pt x="539" y="10"/>
                  </a:lnTo>
                  <a:lnTo>
                    <a:pt x="539" y="0"/>
                  </a:lnTo>
                  <a:lnTo>
                    <a:pt x="619" y="0"/>
                  </a:lnTo>
                  <a:lnTo>
                    <a:pt x="619" y="10"/>
                  </a:lnTo>
                  <a:close/>
                  <a:moveTo>
                    <a:pt x="510" y="10"/>
                  </a:moveTo>
                  <a:lnTo>
                    <a:pt x="431" y="10"/>
                  </a:lnTo>
                  <a:lnTo>
                    <a:pt x="431" y="0"/>
                  </a:lnTo>
                  <a:lnTo>
                    <a:pt x="510" y="0"/>
                  </a:lnTo>
                  <a:lnTo>
                    <a:pt x="510" y="10"/>
                  </a:lnTo>
                  <a:close/>
                  <a:moveTo>
                    <a:pt x="401" y="10"/>
                  </a:moveTo>
                  <a:lnTo>
                    <a:pt x="322" y="10"/>
                  </a:lnTo>
                  <a:lnTo>
                    <a:pt x="322" y="0"/>
                  </a:lnTo>
                  <a:lnTo>
                    <a:pt x="401" y="0"/>
                  </a:lnTo>
                  <a:lnTo>
                    <a:pt x="401" y="10"/>
                  </a:lnTo>
                  <a:close/>
                  <a:moveTo>
                    <a:pt x="292" y="10"/>
                  </a:moveTo>
                  <a:lnTo>
                    <a:pt x="213" y="10"/>
                  </a:lnTo>
                  <a:lnTo>
                    <a:pt x="213" y="0"/>
                  </a:lnTo>
                  <a:lnTo>
                    <a:pt x="292" y="0"/>
                  </a:lnTo>
                  <a:lnTo>
                    <a:pt x="292" y="10"/>
                  </a:lnTo>
                  <a:close/>
                  <a:moveTo>
                    <a:pt x="183" y="10"/>
                  </a:moveTo>
                  <a:lnTo>
                    <a:pt x="104" y="10"/>
                  </a:lnTo>
                  <a:lnTo>
                    <a:pt x="104" y="0"/>
                  </a:lnTo>
                  <a:lnTo>
                    <a:pt x="183" y="0"/>
                  </a:lnTo>
                  <a:lnTo>
                    <a:pt x="183" y="10"/>
                  </a:lnTo>
                  <a:close/>
                  <a:moveTo>
                    <a:pt x="74" y="10"/>
                  </a:moveTo>
                  <a:lnTo>
                    <a:pt x="5" y="10"/>
                  </a:lnTo>
                  <a:lnTo>
                    <a:pt x="10" y="5"/>
                  </a:lnTo>
                  <a:lnTo>
                    <a:pt x="10" y="15"/>
                  </a:lnTo>
                  <a:lnTo>
                    <a:pt x="0" y="15"/>
                  </a:lnTo>
                  <a:lnTo>
                    <a:pt x="0" y="0"/>
                  </a:lnTo>
                  <a:lnTo>
                    <a:pt x="74" y="0"/>
                  </a:lnTo>
                  <a:lnTo>
                    <a:pt x="74" y="10"/>
                  </a:lnTo>
                  <a:close/>
                  <a:moveTo>
                    <a:pt x="10" y="45"/>
                  </a:moveTo>
                  <a:lnTo>
                    <a:pt x="10" y="124"/>
                  </a:lnTo>
                  <a:lnTo>
                    <a:pt x="0" y="124"/>
                  </a:lnTo>
                  <a:lnTo>
                    <a:pt x="0" y="45"/>
                  </a:lnTo>
                  <a:lnTo>
                    <a:pt x="10" y="45"/>
                  </a:lnTo>
                  <a:close/>
                  <a:moveTo>
                    <a:pt x="10" y="153"/>
                  </a:moveTo>
                  <a:lnTo>
                    <a:pt x="10" y="232"/>
                  </a:lnTo>
                  <a:lnTo>
                    <a:pt x="0" y="232"/>
                  </a:lnTo>
                  <a:lnTo>
                    <a:pt x="0" y="153"/>
                  </a:lnTo>
                  <a:lnTo>
                    <a:pt x="10" y="153"/>
                  </a:lnTo>
                  <a:close/>
                  <a:moveTo>
                    <a:pt x="10" y="262"/>
                  </a:moveTo>
                  <a:lnTo>
                    <a:pt x="10" y="341"/>
                  </a:lnTo>
                  <a:lnTo>
                    <a:pt x="0" y="341"/>
                  </a:lnTo>
                  <a:lnTo>
                    <a:pt x="0" y="262"/>
                  </a:lnTo>
                  <a:lnTo>
                    <a:pt x="10" y="262"/>
                  </a:lnTo>
                  <a:close/>
                  <a:moveTo>
                    <a:pt x="10" y="371"/>
                  </a:moveTo>
                  <a:lnTo>
                    <a:pt x="10" y="394"/>
                  </a:lnTo>
                  <a:lnTo>
                    <a:pt x="5" y="389"/>
                  </a:lnTo>
                  <a:lnTo>
                    <a:pt x="61" y="389"/>
                  </a:lnTo>
                  <a:lnTo>
                    <a:pt x="61" y="399"/>
                  </a:lnTo>
                  <a:lnTo>
                    <a:pt x="0" y="399"/>
                  </a:lnTo>
                  <a:lnTo>
                    <a:pt x="0" y="371"/>
                  </a:lnTo>
                  <a:lnTo>
                    <a:pt x="10" y="371"/>
                  </a:lnTo>
                  <a:close/>
                  <a:moveTo>
                    <a:pt x="91" y="389"/>
                  </a:moveTo>
                  <a:lnTo>
                    <a:pt x="170" y="389"/>
                  </a:lnTo>
                  <a:lnTo>
                    <a:pt x="170" y="399"/>
                  </a:lnTo>
                  <a:lnTo>
                    <a:pt x="91" y="399"/>
                  </a:lnTo>
                  <a:lnTo>
                    <a:pt x="91" y="389"/>
                  </a:lnTo>
                  <a:close/>
                  <a:moveTo>
                    <a:pt x="200" y="389"/>
                  </a:moveTo>
                  <a:lnTo>
                    <a:pt x="279" y="389"/>
                  </a:lnTo>
                  <a:lnTo>
                    <a:pt x="279" y="399"/>
                  </a:lnTo>
                  <a:lnTo>
                    <a:pt x="200" y="399"/>
                  </a:lnTo>
                  <a:lnTo>
                    <a:pt x="200" y="389"/>
                  </a:lnTo>
                  <a:close/>
                  <a:moveTo>
                    <a:pt x="309" y="389"/>
                  </a:moveTo>
                  <a:lnTo>
                    <a:pt x="388" y="389"/>
                  </a:lnTo>
                  <a:lnTo>
                    <a:pt x="388" y="399"/>
                  </a:lnTo>
                  <a:lnTo>
                    <a:pt x="309" y="399"/>
                  </a:lnTo>
                  <a:lnTo>
                    <a:pt x="309" y="389"/>
                  </a:lnTo>
                  <a:close/>
                  <a:moveTo>
                    <a:pt x="417" y="389"/>
                  </a:moveTo>
                  <a:lnTo>
                    <a:pt x="497" y="389"/>
                  </a:lnTo>
                  <a:lnTo>
                    <a:pt x="497" y="399"/>
                  </a:lnTo>
                  <a:lnTo>
                    <a:pt x="417" y="399"/>
                  </a:lnTo>
                  <a:lnTo>
                    <a:pt x="417" y="389"/>
                  </a:lnTo>
                  <a:close/>
                  <a:moveTo>
                    <a:pt x="526" y="389"/>
                  </a:moveTo>
                  <a:lnTo>
                    <a:pt x="606" y="389"/>
                  </a:lnTo>
                  <a:lnTo>
                    <a:pt x="606" y="399"/>
                  </a:lnTo>
                  <a:lnTo>
                    <a:pt x="526" y="399"/>
                  </a:lnTo>
                  <a:lnTo>
                    <a:pt x="526" y="389"/>
                  </a:lnTo>
                  <a:close/>
                  <a:moveTo>
                    <a:pt x="635" y="389"/>
                  </a:moveTo>
                  <a:lnTo>
                    <a:pt x="714" y="389"/>
                  </a:lnTo>
                  <a:lnTo>
                    <a:pt x="714" y="399"/>
                  </a:lnTo>
                  <a:lnTo>
                    <a:pt x="635" y="399"/>
                  </a:lnTo>
                  <a:lnTo>
                    <a:pt x="635" y="389"/>
                  </a:lnTo>
                  <a:close/>
                  <a:moveTo>
                    <a:pt x="744" y="389"/>
                  </a:moveTo>
                  <a:lnTo>
                    <a:pt x="823" y="389"/>
                  </a:lnTo>
                  <a:lnTo>
                    <a:pt x="823" y="399"/>
                  </a:lnTo>
                  <a:lnTo>
                    <a:pt x="744" y="399"/>
                  </a:lnTo>
                  <a:lnTo>
                    <a:pt x="744" y="389"/>
                  </a:lnTo>
                  <a:close/>
                  <a:moveTo>
                    <a:pt x="831" y="377"/>
                  </a:moveTo>
                  <a:lnTo>
                    <a:pt x="831" y="298"/>
                  </a:lnTo>
                  <a:lnTo>
                    <a:pt x="841" y="298"/>
                  </a:lnTo>
                  <a:lnTo>
                    <a:pt x="841" y="377"/>
                  </a:lnTo>
                  <a:lnTo>
                    <a:pt x="831" y="377"/>
                  </a:lnTo>
                  <a:close/>
                  <a:moveTo>
                    <a:pt x="831" y="269"/>
                  </a:moveTo>
                  <a:lnTo>
                    <a:pt x="831" y="189"/>
                  </a:lnTo>
                  <a:lnTo>
                    <a:pt x="841" y="189"/>
                  </a:lnTo>
                  <a:lnTo>
                    <a:pt x="841" y="269"/>
                  </a:lnTo>
                  <a:lnTo>
                    <a:pt x="831" y="269"/>
                  </a:lnTo>
                  <a:close/>
                  <a:moveTo>
                    <a:pt x="831" y="160"/>
                  </a:moveTo>
                  <a:lnTo>
                    <a:pt x="831" y="81"/>
                  </a:lnTo>
                  <a:lnTo>
                    <a:pt x="841" y="81"/>
                  </a:lnTo>
                  <a:lnTo>
                    <a:pt x="841" y="160"/>
                  </a:lnTo>
                  <a:lnTo>
                    <a:pt x="831" y="160"/>
                  </a:lnTo>
                  <a:close/>
                  <a:moveTo>
                    <a:pt x="831" y="51"/>
                  </a:moveTo>
                  <a:lnTo>
                    <a:pt x="831" y="5"/>
                  </a:lnTo>
                  <a:lnTo>
                    <a:pt x="841" y="5"/>
                  </a:lnTo>
                  <a:lnTo>
                    <a:pt x="841" y="51"/>
                  </a:lnTo>
                  <a:lnTo>
                    <a:pt x="831" y="5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63200" y="5423040"/>
              <a:ext cx="534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inica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59600" y="5597640"/>
              <a:ext cx="1056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valuation and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62840" y="5772240"/>
              <a:ext cx="823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cruit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956680" y="73512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669000" y="777960"/>
              <a:ext cx="180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750000" y="7779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797520" y="777960"/>
              <a:ext cx="180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958080" y="7779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005600" y="777960"/>
              <a:ext cx="180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513000" y="6262560"/>
            <a:ext cx="326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* Thanks to Rachel Riches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COI Demo – Clinical Trial Eligibility Criteria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95400" y="895320"/>
            <a:ext cx="8839080" cy="53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99"/>
                </a:solidFill>
                <a:latin typeface="Times New Roman"/>
              </a:rPr>
              <a:t>Use Case 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Step-Through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2440" y="1096560"/>
            <a:ext cx="8979120" cy="52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24"/>
              </a:spcBef>
              <a:buClr>
                <a:srgbClr val="000099"/>
              </a:buClr>
              <a:buSzPct val="11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Textual) specification of the eligibility criteria for a given clinical tria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524"/>
              </a:spcBef>
              <a:buClr>
                <a:srgbClr val="000099"/>
              </a:buClr>
              <a:buSzPct val="11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Ontology-based translation of the eligibility criteria into SPARQL queri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524"/>
              </a:spcBef>
              <a:buClr>
                <a:srgbClr val="000099"/>
              </a:buClr>
              <a:buSzPct val="11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ranslation of the SPARQL queries into database-specific queri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524"/>
              </a:spcBef>
              <a:buClr>
                <a:srgbClr val="000099"/>
              </a:buClr>
              <a:buSzPct val="11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xecution of the queries at the databases –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results contain all eligible patient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524"/>
              </a:spcBef>
              <a:buClr>
                <a:srgbClr val="000099"/>
              </a:buClr>
              <a:buSzPct val="11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Return of a list of eligible patients to clinical trial administrato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COI Demo – Selecting Inclusion Criteria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123840" y="895320"/>
            <a:ext cx="8880480" cy="53532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2247840" y="2495520"/>
            <a:ext cx="1400400" cy="447840"/>
          </a:xfrm>
          <a:prstGeom prst="borderCallout2">
            <a:avLst>
              <a:gd name="adj1" fmla="val 18750"/>
              <a:gd name="adj2" fmla="val -8333"/>
              <a:gd name="adj3" fmla="val 25532"/>
              <a:gd name="adj4" fmla="val -56916"/>
              <a:gd name="adj5" fmla="val -89361"/>
              <a:gd name="adj6" fmla="val -110884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sion in SDTM based ont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323120" y="4903920"/>
            <a:ext cx="1400040" cy="447480"/>
          </a:xfrm>
          <a:prstGeom prst="borderCallout2">
            <a:avLst>
              <a:gd name="adj1" fmla="val 18750"/>
              <a:gd name="adj2" fmla="val -8333"/>
              <a:gd name="adj3" fmla="val 25532"/>
              <a:gd name="adj4" fmla="val -65194"/>
              <a:gd name="adj5" fmla="val -206384"/>
              <a:gd name="adj6" fmla="val -127888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DTM based clinical trial ont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COI Demo – Drug Ontology Inference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195120" y="928800"/>
            <a:ext cx="8825040" cy="532440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2352600" y="4762440"/>
            <a:ext cx="1400400" cy="447840"/>
          </a:xfrm>
          <a:prstGeom prst="borderCallout2">
            <a:avLst>
              <a:gd name="adj1" fmla="val 18750"/>
              <a:gd name="adj2" fmla="val -8333"/>
              <a:gd name="adj3" fmla="val 25532"/>
              <a:gd name="adj4" fmla="val -65875"/>
              <a:gd name="adj5" fmla="val -80851"/>
              <a:gd name="adj6" fmla="val -12925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lusion in Drug ont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189920" y="4189320"/>
            <a:ext cx="1400040" cy="314280"/>
          </a:xfrm>
          <a:prstGeom prst="borderCallout2">
            <a:avLst>
              <a:gd name="adj1" fmla="val 18750"/>
              <a:gd name="adj2" fmla="val -8333"/>
              <a:gd name="adj3" fmla="val 36365"/>
              <a:gd name="adj4" fmla="val -58958"/>
              <a:gd name="adj5" fmla="val -296967"/>
              <a:gd name="adj6" fmla="val -1149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ug ont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1943280" y="1352520"/>
            <a:ext cx="6933600" cy="3981600"/>
            <a:chOff x="1943280" y="1352520"/>
            <a:chExt cx="6933600" cy="3981600"/>
          </a:xfrm>
        </p:grpSpPr>
        <p:pic>
          <p:nvPicPr>
            <p:cNvPr id="312" name="" descr=""/>
            <p:cNvPicPr/>
            <p:nvPr/>
          </p:nvPicPr>
          <p:blipFill>
            <a:blip r:embed="rId2"/>
            <a:stretch/>
          </p:blipFill>
          <p:spPr>
            <a:xfrm>
              <a:off x="4143240" y="1352520"/>
              <a:ext cx="4733640" cy="398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 flipV="1">
              <a:off x="1943280" y="3085560"/>
              <a:ext cx="112356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047760" y="2752200"/>
              <a:ext cx="1085400" cy="34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 rot="19441800">
            <a:off x="5185080" y="2876040"/>
            <a:ext cx="37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Subclasses of “anticoagulan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COI Demo – Selecting Mapping Rules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133200" y="919080"/>
            <a:ext cx="8829720" cy="53103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5276880" y="3438360"/>
            <a:ext cx="3647880" cy="1838520"/>
          </a:xfrm>
          <a:prstGeom prst="borderCallout2">
            <a:avLst>
              <a:gd name="adj1" fmla="val 18750"/>
              <a:gd name="adj2" fmla="val -8333"/>
              <a:gd name="adj3" fmla="val 6217"/>
              <a:gd name="adj4" fmla="val -11620"/>
              <a:gd name="adj5" fmla="val -10361"/>
              <a:gd name="adj6" fmla="val -21671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check all drugs that "may_treat obese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{?A rdfs:subClassOf ?B; rdfs:label ?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?B a owl:Restriction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wl:onProperty :may_trea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wl:someValuesFrom :C0028754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{?D a :WeightLoseDrug}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000099"/>
                </a:solidFill>
                <a:latin typeface="Times New Roman"/>
              </a:rPr>
              <a:t>Medication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142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Consolas"/>
              </a:rPr>
              <a:t>:M0271 a sdtm:Medication;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Consolas"/>
              </a:rPr>
              <a:t> spl:classCode </a:t>
            </a:r>
            <a:r>
              <a:rPr b="1" lang="de-DE" sz="2500" spc="-1" strike="noStrike">
                <a:solidFill>
                  <a:srgbClr val="cc0000"/>
                </a:solidFill>
                <a:latin typeface="Consolas"/>
              </a:rPr>
              <a:t>6809</a:t>
            </a:r>
            <a:r>
              <a:rPr b="0" lang="de-DE" sz="2500" spc="-1" strike="noStrike">
                <a:solidFill>
                  <a:srgbClr val="000000"/>
                </a:solidFill>
                <a:latin typeface="Consolas"/>
              </a:rPr>
              <a:t> ; #metformin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Consolas"/>
              </a:rPr>
              <a:t> sdtm:subject :P0006;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Consolas"/>
              </a:rPr>
              <a:t> sdtm:dosePerAdministration [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Consolas"/>
              </a:rPr>
              <a:t>   sdtm:hasValue 500;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Consolas"/>
              </a:rPr>
              <a:t>   sdtm:hasUnit "mg„ ];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Consolas"/>
              </a:rPr>
              <a:t> sdtm:startDateTime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Consolas"/>
              </a:rPr>
              <a:t>   "20070101T00:00:00"^^xsd:dateTime ;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Consolas"/>
              </a:rPr>
              <a:t> sdtm:endDateTime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Consolas"/>
              </a:rPr>
              <a:t>   "2008-0101T00:00:00"^^xsd:dateTime 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389400" y="1181160"/>
            <a:ext cx="936360" cy="377640"/>
          </a:xfrm>
          <a:prstGeom prst="ellipse">
            <a:avLst/>
          </a:prstGeom>
          <a:solidFill>
            <a:srgbClr val="c0c0c0">
              <a:alpha val="50000"/>
            </a:srgbClr>
          </a:solid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000099"/>
                </a:solidFill>
                <a:latin typeface="Times New Roman"/>
              </a:rPr>
              <a:t>Criteria in SPARQL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Consolas"/>
              </a:rPr>
              <a:t>?medication1 sdtm:subject ?patient ;</a:t>
            </a:r>
            <a:br>
              <a:rPr sz="2300"/>
            </a:br>
            <a:r>
              <a:rPr b="0" lang="de-DE" sz="2300" spc="-1" strike="noStrike">
                <a:solidFill>
                  <a:srgbClr val="000000"/>
                </a:solidFill>
                <a:latin typeface="Consolas"/>
              </a:rPr>
              <a:t>spl:activeIngredient ?ingredient1 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Consolas"/>
              </a:rPr>
              <a:t>?ingredient1 spl:classCode 6809 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Consolas"/>
              </a:rPr>
              <a:t>OPTIONAL {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Consolas"/>
              </a:rPr>
              <a:t>  </a:t>
            </a:r>
            <a:r>
              <a:rPr b="0" lang="de-DE" sz="2300" spc="-1" strike="noStrike">
                <a:solidFill>
                  <a:srgbClr val="000000"/>
                </a:solidFill>
                <a:latin typeface="Consolas"/>
              </a:rPr>
              <a:t>?medication2 sdtm:subject ?patient ;</a:t>
            </a:r>
            <a:br>
              <a:rPr sz="2300"/>
            </a:br>
            <a:r>
              <a:rPr b="0" lang="de-DE" sz="2300" spc="-1" strike="noStrike">
                <a:solidFill>
                  <a:srgbClr val="000000"/>
                </a:solidFill>
                <a:latin typeface="Consolas"/>
              </a:rPr>
              <a:t>  spl:activeIngredient ?ingredient2 .</a:t>
            </a:r>
            <a:br>
              <a:rPr sz="2300"/>
            </a:br>
            <a:r>
              <a:rPr b="0" lang="de-DE" sz="2300" spc="-1" strike="noStrike">
                <a:solidFill>
                  <a:srgbClr val="000000"/>
                </a:solidFill>
                <a:latin typeface="Consolas"/>
              </a:rPr>
              <a:t>?ingredient2 spl:classCode 11289 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Consolas"/>
              </a:rPr>
              <a:t>} FILTER (!BOUND(?medication2)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876920" y="2895480"/>
            <a:ext cx="1127160" cy="409680"/>
          </a:xfrm>
          <a:prstGeom prst="ellipse">
            <a:avLst/>
          </a:prstGeom>
          <a:solidFill>
            <a:srgbClr val="993366">
              <a:alpha val="50000"/>
            </a:srgbClr>
          </a:solidFill>
          <a:ln w="255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343400" y="1676520"/>
            <a:ext cx="936720" cy="377640"/>
          </a:xfrm>
          <a:prstGeom prst="ellipse">
            <a:avLst/>
          </a:prstGeom>
          <a:solidFill>
            <a:srgbClr val="c0c0c0">
              <a:alpha val="50000"/>
            </a:srgbClr>
          </a:solid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5257440" y="1371600"/>
            <a:ext cx="3067200" cy="574560"/>
            <a:chOff x="5257440" y="1371600"/>
            <a:chExt cx="3067200" cy="574560"/>
          </a:xfrm>
        </p:grpSpPr>
        <p:sp>
          <p:nvSpPr>
            <p:cNvPr id="327" name=""/>
            <p:cNvSpPr/>
            <p:nvPr/>
          </p:nvSpPr>
          <p:spPr>
            <a:xfrm>
              <a:off x="6164280" y="1371600"/>
              <a:ext cx="2160360" cy="574560"/>
            </a:xfrm>
            <a:prstGeom prst="ellipse">
              <a:avLst/>
            </a:prstGeom>
            <a:solidFill>
              <a:srgbClr val="808080">
                <a:alpha val="50000"/>
              </a:srgbClr>
            </a:solidFill>
            <a:ln w="255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etform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5257440" y="1646280"/>
              <a:ext cx="857160" cy="1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5638680" y="3200040"/>
            <a:ext cx="2808360" cy="1012680"/>
            <a:chOff x="5638680" y="3200040"/>
            <a:chExt cx="2808360" cy="1012680"/>
          </a:xfrm>
        </p:grpSpPr>
        <p:sp>
          <p:nvSpPr>
            <p:cNvPr id="330" name=""/>
            <p:cNvSpPr/>
            <p:nvPr/>
          </p:nvSpPr>
          <p:spPr>
            <a:xfrm>
              <a:off x="5638680" y="3709800"/>
              <a:ext cx="2808360" cy="502920"/>
            </a:xfrm>
            <a:prstGeom prst="ellipse">
              <a:avLst/>
            </a:prstGeom>
            <a:solidFill>
              <a:srgbClr val="808080">
                <a:alpha val="50000"/>
              </a:srgbClr>
            </a:solidFill>
            <a:ln w="255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anticoagula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flipV="1">
              <a:off x="5905440" y="3200040"/>
              <a:ext cx="41904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669960" y="3103560"/>
            <a:ext cx="4727520" cy="647640"/>
          </a:xfrm>
          <a:prstGeom prst="ellipse">
            <a:avLst/>
          </a:prstGeom>
          <a:solidFill>
            <a:srgbClr val="ccecff">
              <a:alpha val="50000"/>
            </a:srgbClr>
          </a:soli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2770200" y="3769920"/>
            <a:ext cx="2808360" cy="1337040"/>
            <a:chOff x="2770200" y="3769920"/>
            <a:chExt cx="2808360" cy="1337040"/>
          </a:xfrm>
        </p:grpSpPr>
        <p:sp>
          <p:nvSpPr>
            <p:cNvPr id="334" name=""/>
            <p:cNvSpPr/>
            <p:nvPr/>
          </p:nvSpPr>
          <p:spPr>
            <a:xfrm>
              <a:off x="2770200" y="4280040"/>
              <a:ext cx="2808360" cy="826920"/>
            </a:xfrm>
            <a:prstGeom prst="ellipse">
              <a:avLst/>
            </a:prstGeom>
            <a:solidFill>
              <a:srgbClr val="808080">
                <a:alpha val="50000"/>
              </a:srgbClr>
            </a:solidFill>
            <a:ln w="255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Exclusion Criteri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3036600" y="3769920"/>
              <a:ext cx="942840" cy="47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99"/>
                </a:solidFill>
                <a:latin typeface="Times New Roman"/>
              </a:rPr>
              <a:t>SDTM to HL7 Transformation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468360" y="1641600"/>
          <a:ext cx="8200800" cy="3495600"/>
        </p:xfrm>
        <a:graphic>
          <a:graphicData uri="http://schemas.openxmlformats.org/drawingml/2006/table">
            <a:tbl>
              <a:tblPr/>
              <a:tblGrid>
                <a:gridCol w="3305160"/>
                <a:gridCol w="4895640"/>
              </a:tblGrid>
              <a:tr h="1463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32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38" name=""/>
          <p:cNvSpPr/>
          <p:nvPr/>
        </p:nvSpPr>
        <p:spPr>
          <a:xfrm>
            <a:off x="423720" y="3367080"/>
            <a:ext cx="3313080" cy="11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5a8263"/>
                </a:solidFill>
                <a:latin typeface="Consolas"/>
              </a:rPr>
              <a:t>hl7</a:t>
            </a: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:Substance-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  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5a8263"/>
                </a:solidFill>
                <a:latin typeface="Consolas"/>
              </a:rPr>
              <a:t>hl7</a:t>
            </a: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:doseQua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851280" y="1824120"/>
            <a:ext cx="496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{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  ?x a </a:t>
            </a:r>
            <a:r>
              <a:rPr b="1" lang="de-DE" sz="1800" spc="-1" strike="noStrike">
                <a:solidFill>
                  <a:srgbClr val="cc0000"/>
                </a:solidFill>
                <a:latin typeface="Consolas"/>
              </a:rPr>
              <a:t>sdtm</a:t>
            </a: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:Medication 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1" lang="de-DE" sz="1800" spc="-1" strike="noStrike">
                <a:solidFill>
                  <a:srgbClr val="cc0000"/>
                </a:solidFill>
                <a:latin typeface="Consolas"/>
              </a:rPr>
              <a:t>sdtm</a:t>
            </a: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:dosePer- 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      Administration ?y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} =&gt; {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  ?x </a:t>
            </a:r>
            <a:r>
              <a:rPr b="1" lang="de-DE" sz="1800" spc="-1" strike="noStrike">
                <a:solidFill>
                  <a:srgbClr val="5a8263"/>
                </a:solidFill>
                <a:latin typeface="Consolas"/>
              </a:rPr>
              <a:t>hl7</a:t>
            </a: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:Substance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        Administration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1" lang="de-DE" sz="1800" spc="-1" strike="noStrike">
                <a:solidFill>
                  <a:srgbClr val="5a8263"/>
                </a:solidFill>
                <a:latin typeface="Consolas"/>
              </a:rPr>
              <a:t>hl7</a:t>
            </a: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:doseQuantity ?y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66840" y="1590840"/>
            <a:ext cx="3313080" cy="11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c0000"/>
                </a:solidFill>
                <a:latin typeface="Consolas"/>
              </a:rPr>
              <a:t>sdtm</a:t>
            </a: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:Med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c0000"/>
                </a:solidFill>
                <a:latin typeface="Consolas"/>
              </a:rPr>
              <a:t>sdtm</a:t>
            </a: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:dosePer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  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262960" y="1239840"/>
            <a:ext cx="33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MS PGothic"/>
              </a:rPr>
              <a:t>Clinical Trial Ont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784880" y="4476600"/>
            <a:ext cx="38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MS PGothic"/>
              </a:rPr>
              <a:t>Clinical Practice Ont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rot="5400000">
            <a:off x="3104640" y="2914560"/>
            <a:ext cx="1295280" cy="5713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42920 h 571320"/>
              <a:gd name="textAreaBottom" fmla="*/ 428760 h 5713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99"/>
                </a:solidFill>
                <a:latin typeface="Times New Roman"/>
              </a:rPr>
              <a:t>HL7 to EMR Database Transformation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468360" y="1641600"/>
          <a:ext cx="8200800" cy="3495600"/>
        </p:xfrm>
        <a:graphic>
          <a:graphicData uri="http://schemas.openxmlformats.org/drawingml/2006/table">
            <a:tbl>
              <a:tblPr/>
              <a:tblGrid>
                <a:gridCol w="3305160"/>
                <a:gridCol w="4895640"/>
              </a:tblGrid>
              <a:tr h="1463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32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46" name=""/>
          <p:cNvSpPr/>
          <p:nvPr/>
        </p:nvSpPr>
        <p:spPr>
          <a:xfrm>
            <a:off x="385920" y="1757520"/>
            <a:ext cx="3313080" cy="11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5a8263"/>
                </a:solidFill>
                <a:latin typeface="Consolas"/>
              </a:rPr>
              <a:t>hl7</a:t>
            </a: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:Substance-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  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5a8263"/>
                </a:solidFill>
                <a:latin typeface="Consolas"/>
              </a:rPr>
              <a:t>hl7</a:t>
            </a: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:doseQua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841920" y="1652760"/>
            <a:ext cx="4968720" cy="39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{ 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  hl7:substanceAdministration</a:t>
            </a: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  [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a</a:t>
            </a: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       hl7:SubstanceAdministration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hl7:consumable [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hl7:displayName</a:t>
            </a: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 ?takes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spl:activeIngredient [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spl:classCode ?ing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] ;} =&gt; {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?indicItem  Item_Medication:PatientID    ?perso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            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Item_Medication:PerformedDTTM  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?indicDate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            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Item_Medication:EntryName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     ?takes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282320" y="1173240"/>
            <a:ext cx="537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MS PGothic"/>
              </a:rPr>
              <a:t>SPARQL in Clinical Practice Ont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164680" y="5286240"/>
            <a:ext cx="32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MS PGothic"/>
              </a:rPr>
              <a:t>SQL to EMR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rot="5400000">
            <a:off x="3104640" y="2914560"/>
            <a:ext cx="1295280" cy="5713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42920 h 571320"/>
              <a:gd name="textAreaBottom" fmla="*/ 428760 h 5713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88880" y="3470400"/>
            <a:ext cx="3313080" cy="11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d78f1f"/>
                </a:solidFill>
                <a:latin typeface="Consolas"/>
              </a:rPr>
              <a:t>Item_Medication</a:t>
            </a: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:EntryName</a:t>
            </a: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     ?takes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d78f1f"/>
                </a:solidFill>
                <a:latin typeface="Consolas"/>
              </a:rPr>
              <a:t>Medication</a:t>
            </a: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:ItemID</a:t>
            </a: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     ?indic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46840" indent="-546840">
              <a:spcBef>
                <a:spcPts val="601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3C Task Force on Clinical Observations Interoper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6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6840" indent="-546840">
              <a:spcBef>
                <a:spcPts val="601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lthcare and Life Sciences (HCLS): A Taxono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68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546840" indent="-546840">
              <a:spcBef>
                <a:spcPts val="601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CLS Ecosystem: Current and Goal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6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6840" indent="-546840">
              <a:spcBef>
                <a:spcPts val="601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ases and Functional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6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6840" indent="-546840">
              <a:spcBef>
                <a:spcPts val="601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ase Demo Step Thro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6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6840" indent="-546840">
              <a:spcBef>
                <a:spcPts val="601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vantages of Semantic Web Techn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6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6840" indent="-546840">
              <a:spcBef>
                <a:spcPts val="601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Pushing Query to Database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spcBef>
                <a:spcPts val="524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SPARQL in SDTM ontology to SPARQL in HL7 ontolog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spcBef>
                <a:spcPts val="524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SPARQL in HL7 ontology to SQL in EMR databa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809640" y="2685960"/>
            <a:ext cx="1000080" cy="230508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T Elig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800440" y="2162160"/>
            <a:ext cx="0" cy="3362400"/>
          </a:xfrm>
          <a:prstGeom prst="line">
            <a:avLst/>
          </a:prstGeom>
          <a:ln w="76320">
            <a:solidFill>
              <a:srgbClr val="6366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570120" y="2608200"/>
            <a:ext cx="1000440" cy="23050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L7 DCM/R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189400" y="2017800"/>
            <a:ext cx="0" cy="3362400"/>
          </a:xfrm>
          <a:prstGeom prst="line">
            <a:avLst/>
          </a:prstGeom>
          <a:ln w="7632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867280" y="2457360"/>
            <a:ext cx="857520" cy="2095560"/>
          </a:xfrm>
          <a:prstGeom prst="flowChartMagneticDisk">
            <a:avLst/>
          </a:prstGeom>
          <a:gradFill rotWithShape="0">
            <a:gsLst>
              <a:gs pos="0">
                <a:srgbClr val="d78f1f"/>
              </a:gs>
              <a:gs pos="50000">
                <a:srgbClr val="ffffff"/>
              </a:gs>
              <a:gs pos="100000">
                <a:srgbClr val="d78f1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952560" y="5067360"/>
            <a:ext cx="1857240" cy="628560"/>
          </a:xfrm>
          <a:custGeom>
            <a:avLst/>
            <a:gdLst>
              <a:gd name="textAreaLeft" fmla="*/ 232200 w 1857240"/>
              <a:gd name="textAreaRight" fmla="*/ 1625400 w 1857240"/>
              <a:gd name="textAreaTop" fmla="*/ 156960 h 628560"/>
              <a:gd name="textAreaBottom" fmla="*/ 471600 h 62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AR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570640" y="5018040"/>
            <a:ext cx="2085840" cy="714600"/>
          </a:xfrm>
          <a:custGeom>
            <a:avLst/>
            <a:gdLst>
              <a:gd name="textAreaLeft" fmla="*/ 260640 w 2085840"/>
              <a:gd name="textAreaRight" fmla="*/ 1825200 w 2085840"/>
              <a:gd name="textAreaTop" fmla="*/ 178560 h 714600"/>
              <a:gd name="textAreaBottom" fmla="*/ 536040 h 714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d78f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036960" y="4989600"/>
            <a:ext cx="1857240" cy="771480"/>
          </a:xfrm>
          <a:custGeom>
            <a:avLst/>
            <a:gdLst>
              <a:gd name="textAreaLeft" fmla="*/ 232200 w 1857240"/>
              <a:gd name="textAreaRight" fmla="*/ 1625400 w 1857240"/>
              <a:gd name="textAreaTop" fmla="*/ 192960 h 771480"/>
              <a:gd name="textAreaBottom" fmla="*/ 578880 h 771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AR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666800" y="1898640"/>
            <a:ext cx="4562640" cy="777960"/>
          </a:xfrm>
          <a:custGeom>
            <a:avLst/>
            <a:gdLst/>
            <a:ahLst/>
            <a:rect l="l" t="t" r="r" b="b"/>
            <a:pathLst>
              <a:path w="3096" h="394">
                <a:moveTo>
                  <a:pt x="3096" y="394"/>
                </a:moveTo>
                <a:cubicBezTo>
                  <a:pt x="2649" y="213"/>
                  <a:pt x="2202" y="32"/>
                  <a:pt x="1686" y="16"/>
                </a:cubicBezTo>
                <a:cubicBezTo>
                  <a:pt x="1170" y="0"/>
                  <a:pt x="585" y="149"/>
                  <a:pt x="0" y="298"/>
                </a:cubicBezTo>
              </a:path>
            </a:pathLst>
          </a:custGeom>
          <a:noFill/>
          <a:ln w="57240">
            <a:solidFill>
              <a:srgbClr val="ccec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655360" y="1841400"/>
            <a:ext cx="300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3668d"/>
                </a:solidFill>
                <a:latin typeface="Times New Roman"/>
              </a:rPr>
              <a:t>List of eligible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SPARQL in SDTM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414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REFIX sdtm: &lt;http://www.sdtm.org/vocabulary#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REFIX spl: &lt;http://www.hl7.org/v3ballot/xml/infrastructure/vocabulary/vocabulary#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c0000"/>
                </a:solidFill>
                <a:latin typeface="Times New Roman"/>
              </a:rPr>
              <a:t>SELECT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?patient ?dob ?sex ?takes ?indicDate?contr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500" spc="-1" strike="noStrike">
                <a:solidFill>
                  <a:srgbClr val="cc0000"/>
                </a:solidFill>
                <a:latin typeface="Times New Roman"/>
              </a:rPr>
              <a:t>WHERE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?patient a sdtm:Patient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dtm:middleName ?middleName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dtm:dateTimeOfBirth ?dob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dtm:sex ?sex 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sdtm:subject ?patient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dtm:standardizedMedicationName ?takes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pl:activeIngredient [ spl:classCode ?code ]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dtm:startDateTimeOfMedication ?indicDat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] 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500" spc="-1" strike="noStrike">
                <a:solidFill>
                  <a:srgbClr val="cc0000"/>
                </a:solidFill>
                <a:latin typeface="Times New Roman"/>
              </a:rPr>
              <a:t>OPTIONAL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sdtm:subject ?patient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dtm:standardizedMedicationName ?contra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pl:activeIngredient [ spl:classCode 11289 ]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dtm:effectiveTime [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dtm:startDateTimeOfMedication ?contraDat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] 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1500" spc="-1" strike="noStrike">
                <a:solidFill>
                  <a:srgbClr val="cc0000"/>
                </a:solidFill>
                <a:latin typeface="Times New Roman"/>
              </a:rPr>
              <a:t>FILTER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(!BOUND(?contra) &amp;&amp; ?code = 6809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SDTM-HL7 Mapping Rules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19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c0000"/>
                </a:solidFill>
                <a:latin typeface="Times New Roman"/>
              </a:rPr>
              <a:t>CONSTRUCT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?patient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cc0000"/>
                </a:solidFill>
                <a:latin typeface="Times New Roman"/>
              </a:rPr>
              <a:t>sdtm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Patient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cc0000"/>
                </a:solidFill>
                <a:latin typeface="Times New Roman"/>
              </a:rPr>
              <a:t>sdtm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middleName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?middleName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cc0000"/>
                </a:solidFill>
                <a:latin typeface="Times New Roman"/>
              </a:rPr>
              <a:t>sdtm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dateTimeOfBirth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?dob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cc0000"/>
                </a:solidFill>
                <a:latin typeface="Times New Roman"/>
              </a:rPr>
              <a:t>sdtm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sex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?sex 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cc0000"/>
                </a:solidFill>
                <a:latin typeface="Times New Roman"/>
              </a:rPr>
              <a:t>sdtm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ConcomitantMedication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cc0000"/>
                </a:solidFill>
                <a:latin typeface="Times New Roman"/>
              </a:rPr>
              <a:t>sdtm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subject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?patient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cc0000"/>
                </a:solidFill>
                <a:latin typeface="Times New Roman"/>
              </a:rPr>
              <a:t>sdtm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standardizedMedicationName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?takes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63668d"/>
                </a:solidFill>
                <a:latin typeface="Times New Roman"/>
              </a:rPr>
              <a:t>spl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activeIngredient [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63668d"/>
                </a:solidFill>
                <a:latin typeface="Times New Roman"/>
              </a:rPr>
              <a:t>spl: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lassCode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?ingred ]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cc0000"/>
                </a:solidFill>
                <a:latin typeface="Times New Roman"/>
              </a:rPr>
              <a:t>sdtm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startDateTimeOfMedication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?star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] .}   </a:t>
            </a:r>
            <a:r>
              <a:rPr b="1" lang="en-US" sz="1500" spc="-1" strike="noStrike">
                <a:solidFill>
                  <a:srgbClr val="cc0000"/>
                </a:solidFill>
                <a:latin typeface="Times New Roman"/>
              </a:rPr>
              <a:t>WHERE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?patient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Person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entityName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?middleName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livingSubjectBirthTime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?dob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administrativeGenderCodePrintName ?sex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substanceAdministration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[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5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SubstanceAdministration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consumable [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displayName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?takes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63668d"/>
                </a:solidFill>
                <a:latin typeface="Times New Roman"/>
              </a:rPr>
              <a:t>spl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activeIngredient    [    </a:t>
            </a:r>
            <a:r>
              <a:rPr b="0" lang="en-US" sz="1500" spc="-1" strike="noStrike">
                <a:solidFill>
                  <a:srgbClr val="63668d"/>
                </a:solidFill>
                <a:latin typeface="Times New Roman"/>
              </a:rPr>
              <a:t>spl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classCode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?ingred ]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]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effectiveTime [      </a:t>
            </a:r>
            <a:r>
              <a:rPr b="0" lang="en-US" sz="15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start    ?start ]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] 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SPARQL in HL7 Via SWtranformer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PREFIX </a:t>
            </a:r>
            <a:r>
              <a:rPr b="0" lang="en-US" sz="17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: &lt;http://www.hl7.org/v3ballot/xml/infrastructure/vocabulary/vocabulary#&g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cc0000"/>
                </a:solidFill>
                <a:latin typeface="Times New Roman"/>
              </a:rPr>
              <a:t>SELECT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?patient ?dob ?sex ?takes ?indicDate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cc0000"/>
                </a:solidFill>
                <a:latin typeface="Times New Roman"/>
              </a:rPr>
              <a:t>WHER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?patient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:entityName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?middleName 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?patient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:livingSubjectBirthTime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?dob 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?patient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:administrativeGenderCodePrintName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?sex 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?patient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:Person 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?patient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:substanceAdministration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?b0035D918_gen0 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?b0035D918_gen0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:consumable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?b0035C798_gen1 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?b0035D918_gen0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:SubstanceAdministration&gt; 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?b0035D918_gen0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:effectiveTime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?b0035C5E8_gen3 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?b0035C798_gen1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:displayName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?takes 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?b0035C798_gen1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:activeIngredient ?b0035C848_gen2 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?b0035C848_gen2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:classCode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?code 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?b0035C5E8_gen3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:start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?indicDate 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700" spc="-1" strike="noStrike">
                <a:solidFill>
                  <a:srgbClr val="cc0000"/>
                </a:solidFill>
                <a:latin typeface="Times New Roman"/>
              </a:rPr>
              <a:t>FILTER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( ?code = 6809 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HL – Database Mapping Rules: Tables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REFIX xsd: &lt;http://www.w3.org/2001/XMLSchema#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REFIX Person: &lt;http://hospital.example/DB/Person#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REFIX Sex_DE: &lt;http://hospital.example/DB/Sex_DE#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REFIX Item_Medication: &lt;http://hospital.example/DB/Item_Medication#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REFIX Medication: &lt;http://hospital.example/DB/Medication#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REFIX Medication_DE: &lt;http://hospital.example/DB/Medication_DE#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REFIX NDCcodes: &lt;http://hospital.example/DB/NDCcodes#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HL – Database Mapping Rules: Schema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97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cc0000"/>
                </a:solidFill>
                <a:latin typeface="Times New Roman"/>
              </a:rPr>
              <a:t>CONSTRUCT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{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97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?person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Person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97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entityName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?middleName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97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livingSubjectBirthTime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?dob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97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administrativeGenderCodePrintName ?sex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97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substanceAdministration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[    a   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SubstanceAdministration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97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5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consumable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[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97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displayName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?takes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97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63668d"/>
                </a:solidFill>
                <a:latin typeface="Times New Roman"/>
              </a:rPr>
              <a:t>spl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activeIngredient [  </a:t>
            </a:r>
            <a:r>
              <a:rPr b="0" lang="en-US" sz="1500" spc="-1" strike="noStrike">
                <a:solidFill>
                  <a:srgbClr val="63668d"/>
                </a:solidFill>
                <a:latin typeface="Times New Roman"/>
              </a:rPr>
              <a:t>spl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classCode ?ingred]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97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]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97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5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effectiveTime [   </a:t>
            </a:r>
            <a:r>
              <a:rPr b="0" lang="en-US" sz="15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start ?indicDate ]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97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] 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97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}   </a:t>
            </a:r>
            <a:r>
              <a:rPr b="0" lang="en-US" sz="1500" spc="-1" strike="noStrike">
                <a:solidFill>
                  <a:srgbClr val="cc0000"/>
                </a:solidFill>
                <a:latin typeface="Times New Roman"/>
              </a:rPr>
              <a:t>WHERE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97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?person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ff9900"/>
                </a:solidFill>
                <a:latin typeface="Times New Roman"/>
              </a:rPr>
              <a:t>Person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MiddleName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?middleName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97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ff9900"/>
                </a:solidFill>
                <a:latin typeface="Times New Roman"/>
              </a:rPr>
              <a:t>Person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DateOfBirth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?dob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97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ff9900"/>
                </a:solidFill>
                <a:latin typeface="Times New Roman"/>
              </a:rPr>
              <a:t>Person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SexDE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?sexEntry   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97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cc0000"/>
                </a:solidFill>
                <a:latin typeface="Times New Roman"/>
              </a:rPr>
              <a:t>OPTIONAL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{ ?indicItem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ff9900"/>
                </a:solidFill>
                <a:latin typeface="Times New Roman"/>
              </a:rPr>
              <a:t>Item_Medication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PatientID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?person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97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ff9900"/>
                </a:solidFill>
                <a:latin typeface="Times New Roman"/>
              </a:rPr>
              <a:t>Item_Medication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PerformedDTTM ?indicDate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97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ff9900"/>
                </a:solidFill>
                <a:latin typeface="Times New Roman"/>
              </a:rPr>
              <a:t>Item_Medication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EntryName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?takes 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97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?indicMed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ff9900"/>
                </a:solidFill>
                <a:latin typeface="Times New Roman"/>
              </a:rPr>
              <a:t>Medication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ItemID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?indicItem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97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ff9900"/>
                </a:solidFill>
                <a:latin typeface="Times New Roman"/>
              </a:rPr>
              <a:t>Medication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DaysToTake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?indicDuration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97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ff9900"/>
                </a:solidFill>
                <a:latin typeface="Times New Roman"/>
              </a:rPr>
              <a:t>Medication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MedDictDE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?indicDE 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97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?indicDE    </a:t>
            </a:r>
            <a:r>
              <a:rPr b="0" lang="en-US" sz="1500" spc="-1" strike="noStrike">
                <a:solidFill>
                  <a:srgbClr val="ff9900"/>
                </a:solidFill>
                <a:latin typeface="Times New Roman"/>
              </a:rPr>
              <a:t>Medication_DE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NDC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?indicNDC 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97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97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97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Drug Class Information in CT #8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spcBef>
                <a:spcPts val="47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monotherapy with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etformin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insulin secretagogue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, or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alpha-glucosidase inhibitors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and a low dose combination of al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spcBef>
                <a:spcPts val="47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Long term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insulin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therap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spcBef>
                <a:spcPts val="47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herapy with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rosiglitazone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(Avandia) or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pioglitazone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(Actos), or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extendin-4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(Byetta), alone or in combination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spcBef>
                <a:spcPts val="47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corticosteroids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spcBef>
                <a:spcPts val="47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weightloss drugs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e.g.,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Xenical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(orlistat),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eridia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(sibutramine),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Acutrim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(phenylpropanol-amine), or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imilar medications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spcBef>
                <a:spcPts val="47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nonsteroidal anti-inflammatory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drugs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spcBef>
                <a:spcPts val="47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Use of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warfarin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(Coumadin),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clopidogrel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(Plavix) or other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anticoagulants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spcBef>
                <a:spcPts val="47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Use of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probenecid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(Benemid, Probalan),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ulfinpyrazone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(Anturane) or other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uricosuric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agents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Prescription Information in Patient Database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374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"132139","131933","98630     ","GlipiZIDE-Metformin HCl 2.5-250 MG Tablet","</a:t>
            </a:r>
            <a:r>
              <a:rPr b="1" lang="en-US" sz="1500" spc="-1" strike="noStrike">
                <a:solidFill>
                  <a:srgbClr val="cc0000"/>
                </a:solidFill>
                <a:latin typeface="Times New Roman"/>
              </a:rPr>
              <a:t>54868079500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",98630,"2.5-250        ","TABS","","MG        ","  ","15","GlipiZIDE-Metformin HCl       ","","GlipiZIDE-Metformin HCl 2.5-250 MG Tablet“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374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"132152","131946","98629     ","GlipiZIDE-Metformin HCl 2.5-500 MG Tablet","</a:t>
            </a:r>
            <a:r>
              <a:rPr b="1" lang="en-US" sz="1500" spc="-1" strike="noStrike">
                <a:solidFill>
                  <a:srgbClr val="cc0000"/>
                </a:solidFill>
                <a:latin typeface="Times New Roman"/>
              </a:rPr>
              <a:t>54868518802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",98629,"2.5-500        ","TABS","","MG        ","  ","15","GlipiZIDE-Metformin HCl       ","","GlipiZIDE-Metformin HCl 2.5-500 MG Tablet“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374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"132407","132201","98628     ","GlipiZIDE-Metformin HCl 5-500 MG Tablet","</a:t>
            </a:r>
            <a:r>
              <a:rPr b="1" lang="en-US" sz="1500" spc="-1" strike="noStrike">
                <a:solidFill>
                  <a:srgbClr val="cc0000"/>
                </a:solidFill>
                <a:latin typeface="Times New Roman"/>
              </a:rPr>
              <a:t>54868546702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",98628,"5-500          ","TABS","","MG        ","  ","15","GlipiZIDE-Metformin HCl       ","","GlipiZIDE-Metformin HCl 5-500 MG Tablet“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374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"132642","132436","C98630    ","GlipiZIDE-Metformin HCl TABS","</a:t>
            </a:r>
            <a:r>
              <a:rPr b="1" lang="en-US" sz="1500" spc="-1" strike="noStrike">
                <a:solidFill>
                  <a:srgbClr val="cc0000"/>
                </a:solidFill>
                <a:latin typeface="Times New Roman"/>
              </a:rPr>
              <a:t>54868079500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",98630,"","TABS","","          ","  ","15","GlipiZIDE-Metformin HCl       ","","GlipiZIDE-Metformin HCl TABS"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4952880" y="2438280"/>
            <a:ext cx="2597040" cy="3992400"/>
            <a:chOff x="4952880" y="2438280"/>
            <a:chExt cx="2597040" cy="3992400"/>
          </a:xfrm>
        </p:grpSpPr>
        <p:sp>
          <p:nvSpPr>
            <p:cNvPr id="379" name=""/>
            <p:cNvSpPr/>
            <p:nvPr/>
          </p:nvSpPr>
          <p:spPr>
            <a:xfrm>
              <a:off x="4952880" y="6062400"/>
              <a:ext cx="138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NDC Co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5713200" y="4006800"/>
              <a:ext cx="399960" cy="19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5736960" y="2438280"/>
              <a:ext cx="1812960" cy="357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Drug Ontology By Stanford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383" name="Object 2" descr=""/>
          <p:cNvPicPr/>
          <p:nvPr/>
        </p:nvPicPr>
        <p:blipFill>
          <a:blip r:embed="rId1"/>
          <a:srcRect l="0" t="0" r="-824" b="-172"/>
          <a:stretch/>
        </p:blipFill>
        <p:spPr>
          <a:xfrm>
            <a:off x="826920" y="1125360"/>
            <a:ext cx="6985080" cy="432144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2755080" y="5884920"/>
            <a:ext cx="268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rom drug ontology docu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3203640" y="5373720"/>
            <a:ext cx="6046920" cy="1484280"/>
            <a:chOff x="3203640" y="5373720"/>
            <a:chExt cx="6046920" cy="1484280"/>
          </a:xfrm>
        </p:grpSpPr>
        <p:sp>
          <p:nvSpPr>
            <p:cNvPr id="386" name=""/>
            <p:cNvSpPr/>
            <p:nvPr/>
          </p:nvSpPr>
          <p:spPr>
            <a:xfrm>
              <a:off x="3203640" y="5373720"/>
              <a:ext cx="5940360" cy="1484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470400" y="5373720"/>
              <a:ext cx="578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NDC:54868079500: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cc0000"/>
                  </a:solidFill>
                  <a:latin typeface="Arial"/>
                </a:rPr>
                <a:t>GlipiZIDE-Metformin HCl 2.5-250 MG Tabl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414600" y="5805360"/>
              <a:ext cx="554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Arial"/>
                </a:rPr>
                <a:t>NDC: </a:t>
              </a: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5486851880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en-US" sz="1400" spc="-1" strike="noStrike">
                  <a:solidFill>
                    <a:srgbClr val="cc0000"/>
                  </a:solidFill>
                  <a:latin typeface="Arial"/>
                </a:rPr>
                <a:t>GlipiZIDE-Metformin HCl 5-500 MG Tabl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420000" y="6237360"/>
              <a:ext cx="455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Arial"/>
                </a:rPr>
                <a:t>NDC:</a:t>
              </a: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5486807950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r>
                <a:rPr b="0" lang="en-US" sz="1400" spc="-1" strike="noStrike">
                  <a:solidFill>
                    <a:srgbClr val="cc0000"/>
                  </a:solidFill>
                  <a:latin typeface="Arial"/>
                </a:rPr>
                <a:t>GlipiZIDE-Metformin HCl TAB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250920" y="1557360"/>
            <a:ext cx="3159000" cy="4464000"/>
            <a:chOff x="250920" y="1557360"/>
            <a:chExt cx="3159000" cy="4464000"/>
          </a:xfrm>
        </p:grpSpPr>
        <p:sp>
          <p:nvSpPr>
            <p:cNvPr id="391" name=""/>
            <p:cNvSpPr/>
            <p:nvPr/>
          </p:nvSpPr>
          <p:spPr>
            <a:xfrm>
              <a:off x="250920" y="1557360"/>
              <a:ext cx="3097080" cy="4464000"/>
            </a:xfrm>
            <a:prstGeom prst="ellipse">
              <a:avLst/>
            </a:prstGeom>
            <a:solidFill>
              <a:srgbClr val="000099">
                <a:alpha val="16000"/>
              </a:srgbClr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b2b2b2"/>
                  </a:solidFill>
                  <a:latin typeface="Arial"/>
                </a:rPr>
                <a:t>CT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048680" y="3268800"/>
              <a:ext cx="128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etformin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73400" y="3668760"/>
              <a:ext cx="220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sulin secretagogu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58120" y="4309920"/>
              <a:ext cx="292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lpha-glucosidase inhibito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31240" y="4741920"/>
              <a:ext cx="1608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nticoagula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31240" y="5173560"/>
              <a:ext cx="186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ricosuric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g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60280" y="3949560"/>
              <a:ext cx="314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onsteroidal anti-inflammator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3871800" y="263700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087800" y="285264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979640" y="1125360"/>
            <a:ext cx="1942920" cy="648000"/>
          </a:xfrm>
          <a:custGeom>
            <a:avLst/>
            <a:gdLst>
              <a:gd name="textAreaLeft" fmla="*/ 339840 w 1942920"/>
              <a:gd name="textAreaRight" fmla="*/ 1408680 w 1942920"/>
              <a:gd name="textAreaTop" fmla="*/ 86760 h 648000"/>
              <a:gd name="textAreaBottom" fmla="*/ 561240 h 648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6516720" y="3716280"/>
            <a:ext cx="2376360" cy="1513080"/>
            <a:chOff x="6516720" y="3716280"/>
            <a:chExt cx="2376360" cy="1513080"/>
          </a:xfrm>
        </p:grpSpPr>
        <p:sp>
          <p:nvSpPr>
            <p:cNvPr id="402" name=""/>
            <p:cNvSpPr/>
            <p:nvPr/>
          </p:nvSpPr>
          <p:spPr>
            <a:xfrm>
              <a:off x="6516720" y="3716280"/>
              <a:ext cx="2376360" cy="1513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731640" y="4221000"/>
              <a:ext cx="1870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ff"/>
                  </a:solidFill>
                  <a:latin typeface="Arial"/>
                </a:rPr>
                <a:t>drugBank: DB0033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ff"/>
                  </a:solidFill>
                  <a:latin typeface="Arial"/>
                </a:rPr>
                <a:t>RxNORM: 680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"/>
          <p:cNvSpPr/>
          <p:nvPr/>
        </p:nvSpPr>
        <p:spPr>
          <a:xfrm>
            <a:off x="5076720" y="436572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C00255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804000" y="5084640"/>
            <a:ext cx="50472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Mapping Between CT and Patient Record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3396240" y="947880"/>
            <a:ext cx="3682440" cy="3983040"/>
            <a:chOff x="3396240" y="947880"/>
            <a:chExt cx="3682440" cy="3983040"/>
          </a:xfrm>
        </p:grpSpPr>
        <p:pic>
          <p:nvPicPr>
            <p:cNvPr id="408" name="" descr=""/>
            <p:cNvPicPr/>
            <p:nvPr/>
          </p:nvPicPr>
          <p:blipFill>
            <a:blip r:embed="rId1"/>
            <a:stretch/>
          </p:blipFill>
          <p:spPr>
            <a:xfrm>
              <a:off x="3511440" y="4035600"/>
              <a:ext cx="3168720" cy="895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09" name=""/>
            <p:cNvGrpSpPr/>
            <p:nvPr/>
          </p:nvGrpSpPr>
          <p:grpSpPr>
            <a:xfrm>
              <a:off x="3396240" y="947880"/>
              <a:ext cx="3682440" cy="3816360"/>
              <a:chOff x="3396240" y="947880"/>
              <a:chExt cx="3682440" cy="3816360"/>
            </a:xfrm>
          </p:grpSpPr>
          <p:sp>
            <p:nvSpPr>
              <p:cNvPr id="410" name=""/>
              <p:cNvSpPr/>
              <p:nvPr/>
            </p:nvSpPr>
            <p:spPr>
              <a:xfrm>
                <a:off x="3530520" y="947880"/>
                <a:ext cx="2449440" cy="3816360"/>
              </a:xfrm>
              <a:prstGeom prst="ellipse">
                <a:avLst/>
              </a:prstGeom>
              <a:solidFill>
                <a:srgbClr val="777777">
                  <a:alpha val="16000"/>
                </a:srgbClr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b2b2b2"/>
                    </a:solidFill>
                    <a:latin typeface="Arial"/>
                  </a:rPr>
                  <a:t>Drug Ontology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1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622680" y="2808360"/>
                <a:ext cx="3456000" cy="87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2" name=""/>
              <p:cNvSpPr/>
              <p:nvPr/>
            </p:nvSpPr>
            <p:spPr>
              <a:xfrm>
                <a:off x="3536280" y="2287440"/>
                <a:ext cx="213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echanismOfAc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396240" y="3684600"/>
                <a:ext cx="1879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GeneralDrugTyp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4" name=""/>
          <p:cNvSpPr/>
          <p:nvPr/>
        </p:nvSpPr>
        <p:spPr>
          <a:xfrm>
            <a:off x="6750000" y="279576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C1299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263920" y="424656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C00665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375160" y="37130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C005039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20925000">
            <a:off x="6372000" y="3428640"/>
            <a:ext cx="1512720" cy="720720"/>
          </a:xfrm>
          <a:custGeom>
            <a:avLst/>
            <a:gdLst>
              <a:gd name="textAreaLeft" fmla="*/ 264600 w 1512720"/>
              <a:gd name="textAreaRight" fmla="*/ 1096920 w 1512720"/>
              <a:gd name="textAreaTop" fmla="*/ 96480 h 720720"/>
              <a:gd name="textAreaBottom" fmla="*/ 624240 h 72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W3C Task Force on Clinical Observations Interoperability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spcBef>
                <a:spcPts val="524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Goals and Objectiv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499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Times New Roman"/>
              </a:rPr>
              <a:t>Establish a collaboration between Providers, Pharma and other HCLS stakeholders for re-use of EMR data in Clinical Resear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499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Times New Roman"/>
              </a:rPr>
              <a:t>Establish the key stakeholders and respective value proposi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499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Times New Roman"/>
              </a:rPr>
              <a:t>Create consensus on a common use case, needs statements and functional requirem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499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Times New Roman"/>
              </a:rPr>
              <a:t>Develop Proofs of Concept by implementing key use c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spcBef>
                <a:spcPts val="524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100" spc="-1" strike="noStrike">
                <a:solidFill>
                  <a:srgbClr val="000000"/>
                </a:solidFill>
                <a:latin typeface="Times New Roman"/>
              </a:rPr>
              <a:t>Participant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499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Times New Roman"/>
              </a:rPr>
              <a:t>Healthcare Provi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451"/>
              </a:spcBef>
              <a:buClr>
                <a:srgbClr val="0099ff"/>
              </a:buClr>
              <a:buSzPct val="11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Times New Roman"/>
              </a:rPr>
              <a:t>Partners, Cleveland Clinic, Intermountain Healthcare, Mayo Clinic, VA/Regenstri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499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Times New Roman"/>
              </a:rPr>
              <a:t>Pharmaceutical Compan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451"/>
              </a:spcBef>
              <a:buClr>
                <a:srgbClr val="0099ff"/>
              </a:buClr>
              <a:buSzPct val="11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Times New Roman"/>
              </a:rPr>
              <a:t>Eli Lilly, Astra Zeneca, Novartis, Pfizer, Bristol Myers Squib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499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Times New Roman"/>
              </a:rPr>
              <a:t>Consort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451"/>
              </a:spcBef>
              <a:buClr>
                <a:srgbClr val="0099ff"/>
              </a:buClr>
              <a:buSzPct val="11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Times New Roman"/>
              </a:rPr>
              <a:t>W3C, CDISC, HL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Advantages of Semantic Web Technologies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lnSpc>
                <a:spcPct val="80000"/>
              </a:lnSpc>
              <a:spcBef>
                <a:spcPts val="524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Plug and play use of multiple ontologies and information models based on industry standards (e.g., CDISC, HL7)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524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bility to access multiple points of view through declarative specification of mapping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pings across CDISC/SDTM and HL7 based information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pings across terminologies such as NDC, RxNorm and Stanford’s Drug Ont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524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bility to map across terminologies via compositional definition of concepts, e.g., Obesity drug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524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Times New Roman"/>
              </a:rPr>
              <a:t>Late binding of coding systems and database schem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524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Times New Roman"/>
              </a:rPr>
              <a:t>Transform SPARQL to SQL in real time, reflecting real time discovery and integration need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Next Steps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spcBef>
                <a:spcPts val="624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olicit Feedback and Participation from the broader Biomedical Informatics communiti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9900"/>
                </a:solidFill>
                <a:uFillTx/>
                <a:latin typeface="Times New Roman"/>
                <a:hlinkClick r:id="rId1"/>
              </a:rPr>
              <a:t>http://esw.w3.org/topic/HCLS/ClinicalObservationsInteroperabi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9900"/>
                </a:solidFill>
                <a:uFillTx/>
                <a:latin typeface="Times New Roman"/>
                <a:hlinkClick r:id="rId2"/>
              </a:rPr>
              <a:t>http://hcls.deri.org/coi/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spcBef>
                <a:spcPts val="624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Develop proof of concepts for a wider variety of use cases in collaboration with various participants in the HCLS Eco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verse Drug Event Reporting and 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nical Trials Data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o-vigi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What is Translational Medicine (TM)?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181480" y="2666880"/>
            <a:ext cx="1676520" cy="1600200"/>
          </a:xfrm>
          <a:prstGeom prst="ellipse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76520" y="20574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5257800"/>
            <a:ext cx="472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84360" y="5218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3080" y="533412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36280" y="54100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6760" y="4724280"/>
            <a:ext cx="91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n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8520" y="228600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olog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434960" y="1788840"/>
            <a:ext cx="6274080" cy="4370040"/>
            <a:chOff x="1434960" y="1788840"/>
            <a:chExt cx="6274080" cy="4370040"/>
          </a:xfrm>
        </p:grpSpPr>
        <p:sp>
          <p:nvSpPr>
            <p:cNvPr id="57" name="_s757773"/>
            <p:cNvSpPr/>
            <p:nvPr/>
          </p:nvSpPr>
          <p:spPr>
            <a:xfrm>
              <a:off x="3724200" y="2382840"/>
              <a:ext cx="1697040" cy="1697040"/>
            </a:xfrm>
            <a:prstGeom prst="ellipse">
              <a:avLst/>
            </a:prstGeom>
            <a:solidFill>
              <a:srgbClr val="0000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757774"/>
            <p:cNvSpPr/>
            <p:nvPr/>
          </p:nvSpPr>
          <p:spPr>
            <a:xfrm>
              <a:off x="3724200" y="1788840"/>
              <a:ext cx="16970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iomedical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sear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757775"/>
            <p:cNvSpPr/>
            <p:nvPr/>
          </p:nvSpPr>
          <p:spPr>
            <a:xfrm>
              <a:off x="4282920" y="3350880"/>
              <a:ext cx="1697040" cy="1697040"/>
            </a:xfrm>
            <a:prstGeom prst="ellipse">
              <a:avLst/>
            </a:pr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757776"/>
            <p:cNvSpPr/>
            <p:nvPr/>
          </p:nvSpPr>
          <p:spPr>
            <a:xfrm>
              <a:off x="6012000" y="4706640"/>
              <a:ext cx="16970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linic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act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757777"/>
            <p:cNvSpPr/>
            <p:nvPr/>
          </p:nvSpPr>
          <p:spPr>
            <a:xfrm>
              <a:off x="3165480" y="3350880"/>
              <a:ext cx="1697040" cy="1697040"/>
            </a:xfrm>
            <a:prstGeom prst="ellipse">
              <a:avLst/>
            </a:prstGeom>
            <a:solidFill>
              <a:srgbClr val="7777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757778"/>
            <p:cNvSpPr/>
            <p:nvPr/>
          </p:nvSpPr>
          <p:spPr>
            <a:xfrm>
              <a:off x="1434960" y="4706640"/>
              <a:ext cx="16970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linic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sear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961080" y="5638680"/>
              <a:ext cx="1280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rsonaliz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edic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1902960" y="2514600"/>
            <a:ext cx="1290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nslat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2666880" y="2971440"/>
            <a:ext cx="1371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8098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03240" y="2220840"/>
            <a:ext cx="232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utcomes and Util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5715000" y="3276360"/>
            <a:ext cx="14479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76520" y="2438280"/>
            <a:ext cx="167616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57600" y="5638680"/>
            <a:ext cx="190512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7162920" y="2895480"/>
            <a:ext cx="1752480" cy="609840"/>
            <a:chOff x="7162920" y="2895480"/>
            <a:chExt cx="1752480" cy="609840"/>
          </a:xfrm>
        </p:grpSpPr>
        <p:sp>
          <p:nvSpPr>
            <p:cNvPr id="72" name=""/>
            <p:cNvSpPr/>
            <p:nvPr/>
          </p:nvSpPr>
          <p:spPr>
            <a:xfrm>
              <a:off x="7313400" y="2971800"/>
              <a:ext cx="1418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isk and Cos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ssess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162920" y="2895480"/>
              <a:ext cx="1752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HCLS Ecosystem: Current State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077320" y="4311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7696080" y="5302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10720" y="3244680"/>
            <a:ext cx="15811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harmaceut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ompan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 rot="10800000">
            <a:off x="3352680" y="4386600"/>
            <a:ext cx="21924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linical Re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Organizations (CR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267080" y="38541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800600" y="2558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435120" y="2406600"/>
            <a:ext cx="586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F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0680" y="2482920"/>
            <a:ext cx="17960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National Institu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Of Heal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33280" y="3701880"/>
            <a:ext cx="1017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Hospit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267080" y="4997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45560" y="4448160"/>
            <a:ext cx="183132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Universitie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Academic Med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enters (AMC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38080" y="3092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30924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60" y="1263600"/>
            <a:ext cx="545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haracterized by silos with uncoordina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upply chains leading to inefficiencies in the syst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9440" y="3092400"/>
            <a:ext cx="108144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enter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Dise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010280" y="3930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934320" y="24825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37240" y="4905360"/>
            <a:ext cx="1017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Hospit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50640" y="4921200"/>
            <a:ext cx="8802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Do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778520" y="3930480"/>
            <a:ext cx="8132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ay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20960" y="5987880"/>
            <a:ext cx="9151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at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711840" y="1873080"/>
            <a:ext cx="9716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atient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ubl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16000" y="5835600"/>
            <a:ext cx="9151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at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73200" y="2178000"/>
            <a:ext cx="9151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at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24480" y="1797120"/>
            <a:ext cx="2362320" cy="4647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09880" y="2711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6720" y="1949400"/>
            <a:ext cx="236196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320" y="2254320"/>
            <a:ext cx="2743200" cy="32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560" y="5530680"/>
            <a:ext cx="210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Biomedical Re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Clinical Pract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75280" y="6369120"/>
            <a:ext cx="231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Clinical Trials/Re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51640" y="6445080"/>
            <a:ext cx="162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Clinical Pract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Some interesting developments …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spcBef>
                <a:spcPts val="624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Payors are performing analyses to enab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loyers to better identify health issues and optimize offer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loyees/members to make better medical deci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cost/utilization optimization and claim adjudi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spcBef>
                <a:spcPts val="624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Providers are performing clinical studies and reviews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evaluate the quality and consistency of clinical c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perform clinical research and evaluate clinical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spcBef>
                <a:spcPts val="624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Pharmaceuticals are performing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nical Tr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ting secondary uses of healthcare data, e.g., use of EMRs for clinical re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Times New Roman"/>
              </a:rPr>
              <a:t>HCLS Ecosystem: Goal State</a:t>
            </a:r>
            <a:endParaRPr b="0" lang="en-US" sz="3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14760" y="3292560"/>
            <a:ext cx="15829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atients, Publ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791320" y="3673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110200" y="4359240"/>
            <a:ext cx="1017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Hospit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123240" y="4359240"/>
            <a:ext cx="8802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Do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568840" y="5425920"/>
            <a:ext cx="8132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ay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943600" y="4739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949720" y="1311120"/>
            <a:ext cx="619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339000" y="4343400"/>
            <a:ext cx="7322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0" y="4511520"/>
            <a:ext cx="99072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53520" y="2530440"/>
            <a:ext cx="15811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harmaceut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ompan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3657600" y="313956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95880" y="1463760"/>
            <a:ext cx="1752840" cy="2819160"/>
          </a:xfrm>
          <a:custGeom>
            <a:avLst/>
            <a:gdLst/>
            <a:ahLst/>
            <a:rect l="l" t="t" r="r" b="b"/>
            <a:pathLst>
              <a:path w="1104" h="1776">
                <a:moveTo>
                  <a:pt x="0" y="1776"/>
                </a:moveTo>
                <a:cubicBezTo>
                  <a:pt x="348" y="1680"/>
                  <a:pt x="696" y="1584"/>
                  <a:pt x="864" y="1344"/>
                </a:cubicBezTo>
                <a:cubicBezTo>
                  <a:pt x="1032" y="1104"/>
                  <a:pt x="1104" y="560"/>
                  <a:pt x="1008" y="336"/>
                </a:cubicBezTo>
                <a:cubicBezTo>
                  <a:pt x="912" y="112"/>
                  <a:pt x="600" y="56"/>
                  <a:pt x="28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248520" y="161604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120920" y="1311120"/>
            <a:ext cx="586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F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724280" y="1463760"/>
            <a:ext cx="121932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962520" y="1616040"/>
            <a:ext cx="457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419720" y="1616040"/>
            <a:ext cx="167616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60040" y="1235160"/>
            <a:ext cx="11836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NI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(Resear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95400" y="2606760"/>
            <a:ext cx="12888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Universitie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AM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828800" y="1844640"/>
            <a:ext cx="4572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971440" y="146376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0" y="2911320"/>
            <a:ext cx="76212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86200" y="3139920"/>
            <a:ext cx="1371600" cy="12193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733920" y="3444840"/>
            <a:ext cx="16761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4191120" y="1692360"/>
            <a:ext cx="1828800" cy="8380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209680" y="3216240"/>
            <a:ext cx="1067040" cy="12193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6400440" y="5562720"/>
            <a:ext cx="106668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454880" y="5394240"/>
            <a:ext cx="166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m FDA, C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4200" y="5791320"/>
            <a:ext cx="6492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Times New Roman"/>
              </a:rPr>
              <a:t>Clinical Observations Interoperability will be 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Times New Roman"/>
              </a:rPr>
              <a:t>Critical Enabler to realize this Vision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Functional Requirements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14065" r="26875" b="46875"/>
          <a:stretch/>
        </p:blipFill>
        <p:spPr>
          <a:xfrm>
            <a:off x="0" y="1066680"/>
            <a:ext cx="8915400" cy="38102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41840" y="5105520"/>
            <a:ext cx="88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 identifies the Use Cases, Systems and Functional Requirement under consideration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I Task 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e Functional Requirements Specification developed  by EHRVA/HIM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Need for a bi-directional EMR – CTMS Link:</a:t>
            </a:r>
            <a:br>
              <a:rPr sz="3400"/>
            </a:b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Shareable Open Source Models of Clinical Data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67480" y="2209680"/>
            <a:ext cx="2192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lthcare Provide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7480" y="3048120"/>
            <a:ext cx="2192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lthcare Provide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5400000">
            <a:off x="933840" y="3803760"/>
            <a:ext cx="612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7480" y="4572000"/>
            <a:ext cx="2242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lthcare Provi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416480" y="1860480"/>
            <a:ext cx="121536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n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D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ID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no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D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315200" y="1986120"/>
            <a:ext cx="1584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nical Tria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315200" y="2824200"/>
            <a:ext cx="1584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nical Tria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5400000">
            <a:off x="7982280" y="3580200"/>
            <a:ext cx="612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315560" y="4348080"/>
            <a:ext cx="1672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nical Trial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2666880" y="3060720"/>
            <a:ext cx="1676520" cy="824040"/>
            <a:chOff x="2666880" y="3060720"/>
            <a:chExt cx="1676520" cy="824040"/>
          </a:xfrm>
        </p:grpSpPr>
        <p:sp>
          <p:nvSpPr>
            <p:cNvPr id="152" name=""/>
            <p:cNvSpPr/>
            <p:nvPr/>
          </p:nvSpPr>
          <p:spPr>
            <a:xfrm>
              <a:off x="2666880" y="3276720"/>
              <a:ext cx="1676520" cy="380880"/>
            </a:xfrm>
            <a:prstGeom prst="leftRightArrow">
              <a:avLst>
                <a:gd name="adj1" fmla="val 50000"/>
                <a:gd name="adj2" fmla="val 8762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974320" y="3060720"/>
              <a:ext cx="12535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linic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bserv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5715000" y="3213000"/>
            <a:ext cx="1676520" cy="824040"/>
            <a:chOff x="5715000" y="3213000"/>
            <a:chExt cx="1676520" cy="824040"/>
          </a:xfrm>
        </p:grpSpPr>
        <p:sp>
          <p:nvSpPr>
            <p:cNvPr id="155" name=""/>
            <p:cNvSpPr/>
            <p:nvPr/>
          </p:nvSpPr>
          <p:spPr>
            <a:xfrm>
              <a:off x="5715000" y="3429000"/>
              <a:ext cx="1676520" cy="380880"/>
            </a:xfrm>
            <a:prstGeom prst="leftRightArrow">
              <a:avLst>
                <a:gd name="adj1" fmla="val 50000"/>
                <a:gd name="adj2" fmla="val 8762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022440" y="3213000"/>
              <a:ext cx="12535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linic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bserv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082000</cp:lastModifiedBy>
  <dcterms:modified xsi:type="dcterms:W3CDTF">2009-02-24T13:51:24Z</dcterms:modified>
  <cp:revision>37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